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5F6E2-DA4C-494F-B7AE-A0CFF2FC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2040" y="39348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E63ED-EF5D-4E07-824D-FE201A7C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472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040" y="3934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4720" y="3934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2DB1C-6B2C-4C9A-8A92-FFB97FD0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040" y="1904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7680" y="1904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62040" y="39348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040" y="39348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7680" y="39348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C7CB0-6329-416E-BCA0-C8BA3EC2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2D7DA-4D74-4FFE-BFBD-FE367358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6204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444E3-78E1-423C-819D-9F744B80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EE1FE-522A-46E6-B6A3-50773444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4720" y="19047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D6877-A260-4BDB-9DF9-32C5560A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04785-257D-4533-BC90-D4AFE148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B4A6C-51F9-49FD-A931-443BEF66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4720" y="19047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62040" y="3934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A6F79-4C75-4F9C-AF0C-2F4C24DF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6204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30D52-FE94-4294-A456-2BDEF3A1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72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4720" y="3934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216E3-1ABC-4C3A-9C7A-76FC2B0C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72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62040" y="39348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FD1DA-F171-4A8B-832B-27E33A1C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2040" y="39348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A1970-295B-445E-B0BC-4C055403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472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2040" y="3934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4720" y="3934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80138-0E8B-492D-B5D8-96084E06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040" y="1904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7680" y="1904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62040" y="39348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040" y="39348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7680" y="39348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4700F-7EEE-4E18-976D-02F80210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87C38-5235-440C-8915-444C6737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4720" y="19047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D4A4C-75D5-4820-9ED0-E4D6B69C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E0F9A-7E3C-44A1-ADCB-1805D6E6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44535-CDC8-4DB3-A6E4-B27E7DE4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4720" y="19047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2040" y="3934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DA784-E016-473A-AC08-235950E3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4720" y="3934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533E4-C2C1-4060-8E2C-4446430D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472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62040" y="39348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C40F5-2D79-456E-A99D-6A820179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204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33C4-34B1-4861-AD45-04F884FA51E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Arial"/>
              </a:rPr>
              <a:t>Level 1&amp;2 Authorized</a:t>
            </a:r>
            <a:br>
              <a:rPr sz="1000"/>
            </a:br>
            <a:r>
              <a:rPr b="0" lang="sv-SE" sz="1000" spc="-1" strike="noStrike">
                <a:solidFill>
                  <a:srgbClr val="000000"/>
                </a:solidFill>
                <a:latin typeface="Arial"/>
              </a:rPr>
              <a:t>Ver 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08000" y="152280"/>
            <a:ext cx="24829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5"/>
          </p:nvPr>
        </p:nvSpPr>
        <p:spPr>
          <a:xfrm>
            <a:off x="6933960" y="6248520"/>
            <a:ext cx="1850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DA28-ADF9-46CE-8782-EDEB960D816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676160" y="24379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8000" y="152280"/>
            <a:ext cx="2482920" cy="533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ftr" idx="6"/>
          </p:nvPr>
        </p:nvSpPr>
        <p:spPr>
          <a:xfrm>
            <a:off x="3124080" y="6396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Arial"/>
              </a:rPr>
              <a:t>Level 1&amp;2 Authorized</a:t>
            </a:r>
            <a:br>
              <a:rPr sz="1000"/>
            </a:br>
            <a:r>
              <a:rPr b="0" lang="sv-SE" sz="1000" spc="-1" strike="noStrike">
                <a:solidFill>
                  <a:srgbClr val="000000"/>
                </a:solidFill>
                <a:latin typeface="Arial"/>
              </a:rPr>
              <a:t>Ver 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5120" y="8996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Verdana"/>
              </a:rPr>
              <a:t>V80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104640" y="1588680"/>
            <a:ext cx="2659320" cy="42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Verdana"/>
              </a:rPr>
              <a:t>Level 1&amp;2 Train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00040" y="2133720"/>
            <a:ext cx="1776600" cy="3728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325600" y="2282760"/>
            <a:ext cx="3757680" cy="3719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711840" y="787320"/>
            <a:ext cx="208116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Disassembly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7240" y="2290680"/>
            <a:ext cx="3868920" cy="22766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700520" y="2281320"/>
            <a:ext cx="3121200" cy="22510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687240" y="4637160"/>
            <a:ext cx="26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ull at buttom to remove the batter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960" y="184644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91880" y="18367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4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00520" y="4613400"/>
            <a:ext cx="26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Use plastic tool to release right latch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2269800" y="3168360"/>
            <a:ext cx="297000" cy="252360"/>
          </a:xfrm>
          <a:prstGeom prst="line">
            <a:avLst/>
          </a:prstGeom>
          <a:ln w="158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Disassembly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38120" y="2351160"/>
            <a:ext cx="2745000" cy="22636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18040" y="2341440"/>
            <a:ext cx="2733840" cy="22575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1338120" y="4668840"/>
            <a:ext cx="260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Use plastic tool to release left latch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29840" y="19191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5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09400" y="19065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6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18040" y="4667400"/>
            <a:ext cx="260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Unfasten 4x screw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146640" y="3173400"/>
            <a:ext cx="262080" cy="195120"/>
          </a:xfrm>
          <a:prstGeom prst="line">
            <a:avLst/>
          </a:prstGeom>
          <a:ln w="158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078240" y="3529080"/>
            <a:ext cx="261720" cy="195120"/>
          </a:xfrm>
          <a:prstGeom prst="line">
            <a:avLst/>
          </a:prstGeom>
          <a:ln w="158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483320" y="3622680"/>
            <a:ext cx="262080" cy="195120"/>
          </a:xfrm>
          <a:prstGeom prst="line">
            <a:avLst/>
          </a:prstGeom>
          <a:ln w="158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457760" y="4095720"/>
            <a:ext cx="261720" cy="195120"/>
          </a:xfrm>
          <a:prstGeom prst="line">
            <a:avLst/>
          </a:prstGeom>
          <a:ln w="158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Disassembly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47680" y="2198520"/>
            <a:ext cx="2952720" cy="214632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1139040" y="176364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7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74680" y="17794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8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782960" y="2211480"/>
            <a:ext cx="3416400" cy="21128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1147680" y="4422600"/>
            <a:ext cx="260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Use plastic tool to release right latch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82960" y="4422600"/>
            <a:ext cx="260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Use plastic tool to release left latch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010120" y="2008080"/>
            <a:ext cx="2981520" cy="25257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Disassembly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401840" y="1994040"/>
            <a:ext cx="2409840" cy="25336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59" name=""/>
          <p:cNvSpPr/>
          <p:nvPr/>
        </p:nvSpPr>
        <p:spPr>
          <a:xfrm>
            <a:off x="1401840" y="4610160"/>
            <a:ext cx="260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Disconnect camera connector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93200" y="16146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9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10120" y="4608360"/>
            <a:ext cx="260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Disconnect 60pins connector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93200" y="160668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10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10120" y="1944720"/>
            <a:ext cx="297972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11560" y="2014560"/>
            <a:ext cx="2971800" cy="25146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Disassembly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24000" y="2246400"/>
            <a:ext cx="3263760" cy="2263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216080" y="2251080"/>
            <a:ext cx="3252600" cy="22525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24000" y="4589640"/>
            <a:ext cx="260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Remove PCB from Front Housing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07080" y="180036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11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113440" y="2208240"/>
            <a:ext cx="2886120" cy="23241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099400" y="175896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12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13440" y="4602240"/>
            <a:ext cx="260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Use plastic tool to lift up Keypad from Main PCB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143080"/>
            <a:ext cx="297972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38640" y="2225520"/>
            <a:ext cx="2860920" cy="22939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Disassembly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065240" y="4965840"/>
            <a:ext cx="260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Remove Mic and RTC Batter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1080" y="170820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13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65240" y="2141640"/>
            <a:ext cx="2819520" cy="2735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057320" y="2133720"/>
            <a:ext cx="2819520" cy="27432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2865240" y="4538520"/>
            <a:ext cx="330120" cy="168480"/>
          </a:xfrm>
          <a:prstGeom prst="line">
            <a:avLst/>
          </a:prstGeom>
          <a:ln w="158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392720" y="2314440"/>
            <a:ext cx="4232160" cy="23767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4369320" y="16844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14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10080" y="4948200"/>
            <a:ext cx="26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Unscrew the 4 screws and lift up the Displaylen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Verdana"/>
              </a:rPr>
              <a:t>Disassembly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681280" y="2257560"/>
            <a:ext cx="3841920" cy="207324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2669040" y="171756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15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19440" y="4524480"/>
            <a:ext cx="348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Use the disassembly tool to disconnect the display module flex connector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Verdana"/>
              </a:rPr>
              <a:t>Highlight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GSM 900/1800/1900 MHz GPRS (2U/4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Built in VGA Camera (640x480 pixel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65K TFT Active Color Displ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Polyphonic Speak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Speaker Ph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Bluetooth™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Situation Ligh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Video Clip Play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5MB User Mem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Verdana"/>
              </a:rPr>
              <a:t>Highlight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MMS (Multi Media Messaging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EMS 5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Instant Messag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EMAIL (SMTP, IMAP4 &amp; POP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WAP 2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kJava G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Pre-loaded and download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PIM Functiona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With picture caller I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Voice No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Verdana"/>
              </a:rPr>
              <a:t>Highlight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Composable, Downloadable MIDI (24 Channels &amp; 22kHz Sampling Rate), iMelody, MP3 &amp; WAV Ring T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Nokia Smart Messaging Su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Downloadable Themes (Ringer Tones, Pictures &amp; Screen Save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Same platform as V5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Verdana"/>
              </a:rPr>
              <a:t>Situation Light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30440" y="1657440"/>
            <a:ext cx="2185920" cy="4052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05200" y="1658880"/>
            <a:ext cx="20703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33440" y="1782720"/>
            <a:ext cx="1378080" cy="4392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497560" y="2714760"/>
            <a:ext cx="1428840" cy="3127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Verdana"/>
              </a:rPr>
              <a:t>Physical Overview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171320" y="1604880"/>
            <a:ext cx="159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65K TF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Color Displa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176x22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5920" y="3340080"/>
            <a:ext cx="134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5 wa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Navigati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Ke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05560" y="141768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Speak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26520" y="500688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Polyphonic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Speak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9360" y="3332160"/>
            <a:ext cx="10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Volume</a:t>
            </a:r>
            <a:br>
              <a:rPr sz="1800"/>
            </a:b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Key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3400" y="5878440"/>
            <a:ext cx="130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Accessor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Connecto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680" y="48196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Microphon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29760" y="166068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VGA Camer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16240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VR Ke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35200" y="1811160"/>
            <a:ext cx="1041480" cy="4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1216080" y="3728520"/>
            <a:ext cx="99864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76360" y="5176800"/>
            <a:ext cx="1389240" cy="73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887480" y="6105600"/>
            <a:ext cx="93816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616200" y="4546440"/>
            <a:ext cx="51624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999880" y="3981600"/>
            <a:ext cx="113220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6544800" y="5156280"/>
            <a:ext cx="111780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877840" y="2209680"/>
            <a:ext cx="1490760" cy="8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197760" y="1955520"/>
            <a:ext cx="1066680" cy="10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Verdana"/>
              </a:rPr>
              <a:t>Accessori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040" y="1905120"/>
            <a:ext cx="3809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High Capacity Batter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Desktop Speak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Travel Charg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Desktop Charg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Free Charg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Bluetooth Carki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Easy Install Carki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Professional Carki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Vehicle Power Adap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24560" y="1905120"/>
            <a:ext cx="3809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Bluetooth Headse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FM Stereo Headse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MP3 Play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One Touch Headse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Mono Headse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Serial / USB Data Ki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Verdana"/>
              </a:rPr>
              <a:t>Specificatio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nds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SM 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900/1800/190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P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ze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76,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ight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mensions (mm)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45,3 x 98,8 x 23,65 m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play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65K TFT Col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176 x 220 pix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lk time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 to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279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minutes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Talk time with BT: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up to 214 minutes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ndby time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 to 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164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hours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* 800mAh LiIon batte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Disassembly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322280" y="2197080"/>
            <a:ext cx="2543400" cy="21351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157720" y="2174760"/>
            <a:ext cx="2190960" cy="21272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322280" y="4422600"/>
            <a:ext cx="26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ess latch to release battery door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57720" y="4376880"/>
            <a:ext cx="26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ull on top to remove battery door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13640" y="17524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49080" y="17272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3:32:03Z</dcterms:created>
  <dc:creator>Alexander Bühler</dc:creator>
  <dc:description/>
  <dc:language>en-US</dc:language>
  <cp:lastModifiedBy>Jonas Marken</cp:lastModifiedBy>
  <dcterms:modified xsi:type="dcterms:W3CDTF">2004-03-26T12:28:04Z</dcterms:modified>
  <cp:revision>70</cp:revision>
  <dc:subject/>
  <dc:title>V80</dc:title>
</cp:coreProperties>
</file>