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814B5-1362-4C1A-8992-F6B960B5856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F9A86-816A-4808-AB57-EEB1B226FA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DB967-4ADB-476C-92B2-3CA76C8C1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7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6512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7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6512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249D8E-03DA-4CF1-842C-220B120F74E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2C8ED-5972-40CB-A221-3DE62E9E16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1A1F-9D57-475F-ADB5-307A93E84D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E7322-860C-4FE8-BFA4-106F3DA556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BCACAC-7EB2-432C-BB83-BE72914B3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6A005-454B-4349-8CE0-181208D622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870A5-F7D5-4D70-ACB3-2026E7DFB7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C0C65-C4D3-4827-867C-FF3332A50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AE76D-C6E2-43AE-A607-EE6F3F7B51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itle1_365a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mpal_logo" descr=""/>
          <p:cNvPicPr/>
          <p:nvPr/>
        </p:nvPicPr>
        <p:blipFill>
          <a:blip r:embed="rId3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pic>
        <p:nvPicPr>
          <p:cNvPr id="4" name="title2_365" descr=""/>
          <p:cNvPicPr/>
          <p:nvPr/>
        </p:nvPicPr>
        <p:blipFill>
          <a:blip r:embed="rId4"/>
          <a:stretch/>
        </p:blipFill>
        <p:spPr>
          <a:xfrm>
            <a:off x="0" y="6224760"/>
            <a:ext cx="9144000" cy="63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27432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677D-9EB0-487E-AEC4-B95DC67272D8}" type="slidenum"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7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7000" y="144360"/>
            <a:ext cx="1290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ffffff"/>
                </a:solidFill>
                <a:latin typeface="Arial"/>
              </a:rPr>
              <a:t>HEADLIN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362320"/>
            <a:ext cx="5333760" cy="14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000000"/>
                </a:solidFill>
                <a:latin typeface="Arial"/>
                <a:ea typeface="SimSun"/>
              </a:rPr>
              <a:t>C115 RF Func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Present by Allan_H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2F93-48B8-419E-9778-FC29F5DA29C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1143000"/>
            <a:ext cx="670572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  <a:ea typeface="Arial Unicode MS"/>
              </a:rPr>
              <a:t>C115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Function Block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F Tranceiver </a:t>
            </a:r>
            <a:r>
              <a:rPr b="0" lang="zh-TW" sz="2000" spc="-1" strike="noStrike">
                <a:solidFill>
                  <a:srgbClr val="000000"/>
                </a:solidFill>
                <a:latin typeface="Arial"/>
              </a:rPr>
              <a:t>(TRF6151)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Block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115 RF Receiv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C115 RF Transmit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SzPct val="1233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RF Crystal Circui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26CF-9537-4E66-BD6F-949646E2052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48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9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51" name=""/>
          <p:cNvSpPr/>
          <p:nvPr/>
        </p:nvSpPr>
        <p:spPr>
          <a:xfrm>
            <a:off x="609480" y="152280"/>
            <a:ext cx="7772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nction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081440" y="604836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klight_L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300720" y="625320"/>
            <a:ext cx="92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GSM_TXE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275400" y="635040"/>
            <a:ext cx="8622360" cy="5557320"/>
            <a:chOff x="275400" y="635040"/>
            <a:chExt cx="8622360" cy="5557320"/>
          </a:xfrm>
        </p:grpSpPr>
        <p:sp>
          <p:nvSpPr>
            <p:cNvPr id="55" name=""/>
            <p:cNvSpPr/>
            <p:nvPr/>
          </p:nvSpPr>
          <p:spPr>
            <a:xfrm>
              <a:off x="4427640" y="3146400"/>
              <a:ext cx="1438200" cy="128124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635360" y="3513240"/>
              <a:ext cx="989280" cy="106884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Times New Roman"/>
                </a:rPr>
                <a:t>CPU(G2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00"/>
                  </a:solidFill>
                  <a:latin typeface="Times New Roman"/>
                </a:rPr>
                <a:t>Calypos Lit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79560" y="3124080"/>
              <a:ext cx="1701720" cy="1165320"/>
            </a:xfrm>
            <a:prstGeom prst="rect">
              <a:avLst/>
            </a:prstGeom>
            <a:solidFill>
              <a:srgbClr val="ccccff"/>
            </a:solidFill>
            <a:ln w="381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413080" y="3490920"/>
              <a:ext cx="726480" cy="36828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OT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570640" y="896760"/>
              <a:ext cx="1054080" cy="638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554800" y="89676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P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X7732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151760" y="1338120"/>
              <a:ext cx="1515960" cy="638280"/>
            </a:xfrm>
            <a:prstGeom prst="rect">
              <a:avLst/>
            </a:prstGeom>
            <a:solidFill>
              <a:srgbClr val="ccffff"/>
            </a:solidFill>
            <a:ln w="3816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035120" y="1401840"/>
              <a:ext cx="17535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/R SWITC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MSP43AA-19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011320" y="5421240"/>
              <a:ext cx="1384200" cy="765360"/>
            </a:xfrm>
            <a:prstGeom prst="rect">
              <a:avLst/>
            </a:prstGeom>
            <a:solidFill>
              <a:srgbClr val="ffff00"/>
            </a:solidFill>
            <a:ln w="31680">
              <a:solidFill>
                <a:srgbClr val="3333cc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053440" y="5549760"/>
              <a:ext cx="1217160" cy="64260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Mono B/W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81760" y="3268800"/>
              <a:ext cx="598680" cy="6379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932520" y="3357720"/>
              <a:ext cx="515880" cy="45900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INTE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Flas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16Mb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846440" y="1284120"/>
              <a:ext cx="509400" cy="28260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801800" y="1295280"/>
              <a:ext cx="69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Crysta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5899320" y="3651120"/>
              <a:ext cx="988920" cy="5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V="1">
              <a:off x="5889600" y="3835080"/>
              <a:ext cx="988920" cy="46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5998680" y="3471840"/>
              <a:ext cx="61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[1..22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27400" y="3657600"/>
              <a:ext cx="697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B[0..15]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130720" y="5197320"/>
              <a:ext cx="855720" cy="3844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219280" y="5235480"/>
              <a:ext cx="813240" cy="3373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Keypa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795840" y="3040200"/>
              <a:ext cx="45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791160" y="3187800"/>
              <a:ext cx="46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S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6640" y="2720880"/>
              <a:ext cx="0" cy="40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345400" y="2433600"/>
              <a:ext cx="6195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Rx_I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X_I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V="1">
              <a:off x="3844800" y="2039400"/>
              <a:ext cx="1800" cy="65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065480" y="2182680"/>
              <a:ext cx="217512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3Wi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(RF_DAT, RF_CLK, RF_LE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801880" y="890640"/>
              <a:ext cx="1449360" cy="113652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059640" y="1116000"/>
              <a:ext cx="891000" cy="825480"/>
            </a:xfrm>
            <a:prstGeom prst="rect">
              <a:avLst/>
            </a:pr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IT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567240" y="1436760"/>
              <a:ext cx="1839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1068480" y="1295280"/>
              <a:ext cx="645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6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99240" y="180648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26’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483080" y="2762280"/>
              <a:ext cx="0" cy="38412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948480" y="2770200"/>
              <a:ext cx="69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26’M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624720" y="1146240"/>
              <a:ext cx="85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" name=""/>
            <p:cNvGrpSpPr/>
            <p:nvPr/>
          </p:nvGrpSpPr>
          <p:grpSpPr>
            <a:xfrm>
              <a:off x="2637000" y="4491000"/>
              <a:ext cx="137520" cy="313920"/>
              <a:chOff x="2637000" y="4491000"/>
              <a:chExt cx="137520" cy="313920"/>
            </a:xfrm>
          </p:grpSpPr>
          <p:sp>
            <p:nvSpPr>
              <p:cNvPr id="90" name=""/>
              <p:cNvSpPr/>
              <p:nvPr/>
            </p:nvSpPr>
            <p:spPr>
              <a:xfrm>
                <a:off x="2637000" y="4491000"/>
                <a:ext cx="132480" cy="127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2642400" y="4613400"/>
                <a:ext cx="132120" cy="191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2" name=""/>
            <p:cNvSpPr/>
            <p:nvPr/>
          </p:nvSpPr>
          <p:spPr>
            <a:xfrm>
              <a:off x="2534040" y="4772160"/>
              <a:ext cx="420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M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35240" y="284796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uzz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21360" y="3087720"/>
              <a:ext cx="527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" name=""/>
            <p:cNvGrpSpPr/>
            <p:nvPr/>
          </p:nvGrpSpPr>
          <p:grpSpPr>
            <a:xfrm>
              <a:off x="7448400" y="2927520"/>
              <a:ext cx="196560" cy="318960"/>
              <a:chOff x="7448400" y="2927520"/>
              <a:chExt cx="196560" cy="318960"/>
            </a:xfrm>
          </p:grpSpPr>
          <p:sp>
            <p:nvSpPr>
              <p:cNvPr id="96" name=""/>
              <p:cNvSpPr/>
              <p:nvPr/>
            </p:nvSpPr>
            <p:spPr>
              <a:xfrm>
                <a:off x="7448400" y="2991240"/>
                <a:ext cx="65520" cy="191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5400000">
                <a:off x="7419960" y="3021480"/>
                <a:ext cx="318960" cy="131040"/>
              </a:xfrm>
              <a:custGeom>
                <a:avLst/>
                <a:gdLst>
                  <a:gd name="textAreaLeft" fmla="*/ 70200 w 318960"/>
                  <a:gd name="textAreaRight" fmla="*/ 248760 w 318960"/>
                  <a:gd name="textAreaTop" fmla="*/ 28800 h 131040"/>
                  <a:gd name="textAreaBottom" fmla="*/ 102240 h 1310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0" y="21600"/>
                    </a:lnTo>
                    <a:lnTo>
                      <a:pt x="540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6640" bIns="26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" name=""/>
            <p:cNvGrpSpPr/>
            <p:nvPr/>
          </p:nvGrpSpPr>
          <p:grpSpPr>
            <a:xfrm>
              <a:off x="4674240" y="1657440"/>
              <a:ext cx="575280" cy="307080"/>
              <a:chOff x="4674240" y="1657440"/>
              <a:chExt cx="575280" cy="307080"/>
            </a:xfrm>
          </p:grpSpPr>
          <p:sp>
            <p:nvSpPr>
              <p:cNvPr id="99" name=""/>
              <p:cNvSpPr/>
              <p:nvPr/>
            </p:nvSpPr>
            <p:spPr>
              <a:xfrm>
                <a:off x="4730040" y="1672920"/>
                <a:ext cx="461520" cy="2386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674240" y="1657440"/>
                <a:ext cx="575280" cy="3070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1" name=""/>
            <p:cNvGrpSpPr/>
            <p:nvPr/>
          </p:nvGrpSpPr>
          <p:grpSpPr>
            <a:xfrm>
              <a:off x="4675680" y="1913040"/>
              <a:ext cx="575280" cy="307080"/>
              <a:chOff x="4675680" y="1913040"/>
              <a:chExt cx="575280" cy="307080"/>
            </a:xfrm>
          </p:grpSpPr>
          <p:sp>
            <p:nvSpPr>
              <p:cNvPr id="102" name=""/>
              <p:cNvSpPr/>
              <p:nvPr/>
            </p:nvSpPr>
            <p:spPr>
              <a:xfrm>
                <a:off x="4731480" y="1927080"/>
                <a:ext cx="461520" cy="24012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675680" y="1913040"/>
                <a:ext cx="575280" cy="307080"/>
              </a:xfrm>
              <a:prstGeom prst="rect">
                <a:avLst/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AW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" name=""/>
            <p:cNvSpPr/>
            <p:nvPr/>
          </p:nvSpPr>
          <p:spPr>
            <a:xfrm flipH="1">
              <a:off x="5202000" y="1784520"/>
              <a:ext cx="194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5465520" y="1913040"/>
              <a:ext cx="1685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65880" y="1917720"/>
              <a:ext cx="0" cy="12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5217840" y="2039760"/>
              <a:ext cx="25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251240" y="1784520"/>
              <a:ext cx="46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4581360" y="2039760"/>
              <a:ext cx="13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81360" y="1913040"/>
              <a:ext cx="0" cy="12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51240" y="1913040"/>
              <a:ext cx="330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209480" y="782640"/>
              <a:ext cx="660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GSM_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473120" y="5654520"/>
              <a:ext cx="527040" cy="0"/>
            </a:xfrm>
            <a:prstGeom prst="line">
              <a:avLst/>
            </a:prstGeom>
            <a:ln w="158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378800" y="5407200"/>
              <a:ext cx="595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nRes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323760" y="326232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6155280" y="5197320"/>
              <a:ext cx="749160" cy="459000"/>
              <a:chOff x="6155280" y="5197320"/>
              <a:chExt cx="749160" cy="459000"/>
            </a:xfrm>
          </p:grpSpPr>
          <p:sp>
            <p:nvSpPr>
              <p:cNvPr id="117" name=""/>
              <p:cNvSpPr/>
              <p:nvPr/>
            </p:nvSpPr>
            <p:spPr>
              <a:xfrm>
                <a:off x="6166440" y="5202360"/>
                <a:ext cx="729000" cy="38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155280" y="5197320"/>
                <a:ext cx="7491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Battery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TW" sz="1200" spc="-1" strike="noStrike">
                    <a:solidFill>
                      <a:srgbClr val="000000"/>
                    </a:solidFill>
                    <a:latin typeface="Times New Roman"/>
                  </a:rPr>
                  <a:t>Conn_3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5721120" y="4653000"/>
              <a:ext cx="93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cc"/>
                  </a:solidFill>
                  <a:latin typeface="Times New Roman"/>
                </a:rPr>
                <a:t>BATTEM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440000" y="5826240"/>
              <a:ext cx="263520" cy="253800"/>
            </a:xfrm>
            <a:prstGeom prst="su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2840" bIns="42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99120" y="5794200"/>
              <a:ext cx="1022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Keypad Ligh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834880" y="1609560"/>
              <a:ext cx="132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GSM_Rx (GSM85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835600" y="186372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CS_Rx (PCS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972480" y="847800"/>
              <a:ext cx="680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SM_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221000" y="1184400"/>
              <a:ext cx="63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DCS_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24720" y="101916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V="1">
              <a:off x="7678800" y="1019160"/>
              <a:ext cx="0" cy="318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V="1">
              <a:off x="7480440" y="1145880"/>
              <a:ext cx="0" cy="19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890040" y="1123920"/>
              <a:ext cx="651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DCS_P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438360" y="4683240"/>
              <a:ext cx="387360" cy="2444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386880" y="4718160"/>
              <a:ext cx="54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Head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137040" y="4294080"/>
              <a:ext cx="0" cy="39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703600" y="4299120"/>
              <a:ext cx="0" cy="19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4" name=""/>
            <p:cNvGrpSpPr/>
            <p:nvPr/>
          </p:nvGrpSpPr>
          <p:grpSpPr>
            <a:xfrm>
              <a:off x="275400" y="3675240"/>
              <a:ext cx="549360" cy="452160"/>
              <a:chOff x="275400" y="3675240"/>
              <a:chExt cx="549360" cy="452160"/>
            </a:xfrm>
          </p:grpSpPr>
          <p:sp>
            <p:nvSpPr>
              <p:cNvPr id="135" name=""/>
              <p:cNvSpPr/>
              <p:nvPr/>
            </p:nvSpPr>
            <p:spPr>
              <a:xfrm>
                <a:off x="277920" y="3675240"/>
                <a:ext cx="527040" cy="452160"/>
              </a:xfrm>
              <a:prstGeom prst="rect">
                <a:avLst/>
              </a:prstGeom>
              <a:solidFill>
                <a:srgbClr val="ccccff"/>
              </a:solidFill>
              <a:ln w="3168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275400" y="3795480"/>
                <a:ext cx="549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Times New Roman"/>
                  </a:rPr>
                  <a:t>S-824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6086520" y="641520"/>
              <a:ext cx="0" cy="2552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681880" y="6350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AP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391400" y="299088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1341360" y="3171960"/>
              <a:ext cx="527040" cy="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 flipV="1">
              <a:off x="1458720" y="3857760"/>
              <a:ext cx="39996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11240" y="4673520"/>
              <a:ext cx="490680" cy="34452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952200" y="4740120"/>
              <a:ext cx="618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NCP345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76400" y="3321000"/>
              <a:ext cx="54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o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2801160" y="1719360"/>
              <a:ext cx="199800" cy="128880"/>
              <a:chOff x="2801160" y="1719360"/>
              <a:chExt cx="199800" cy="128880"/>
            </a:xfrm>
          </p:grpSpPr>
          <p:sp>
            <p:nvSpPr>
              <p:cNvPr id="146" name=""/>
              <p:cNvSpPr/>
              <p:nvPr/>
            </p:nvSpPr>
            <p:spPr>
              <a:xfrm rot="5352600">
                <a:off x="2870280" y="1717560"/>
                <a:ext cx="127080" cy="132120"/>
              </a:xfrm>
              <a:prstGeom prst="flowChartMerge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440" bIns="194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5352600">
                <a:off x="2802960" y="1751760"/>
                <a:ext cx="63360" cy="66240"/>
              </a:xfrm>
              <a:prstGeom prst="ellipse">
                <a:avLst/>
              </a:prstGeom>
              <a:solidFill>
                <a:srgbClr val="ff99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0" bIns="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8" name=""/>
            <p:cNvSpPr/>
            <p:nvPr/>
          </p:nvSpPr>
          <p:spPr>
            <a:xfrm>
              <a:off x="2801880" y="1465200"/>
              <a:ext cx="263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872320" y="3379680"/>
              <a:ext cx="334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195960" y="3087720"/>
              <a:ext cx="7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3976560" y="2039400"/>
              <a:ext cx="1800" cy="58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225520" y="4554360"/>
              <a:ext cx="263520" cy="382680"/>
              <a:chOff x="2225520" y="4554360"/>
              <a:chExt cx="263520" cy="382680"/>
            </a:xfrm>
          </p:grpSpPr>
          <p:sp>
            <p:nvSpPr>
              <p:cNvPr id="153" name=""/>
              <p:cNvSpPr/>
              <p:nvPr/>
            </p:nvSpPr>
            <p:spPr>
              <a:xfrm>
                <a:off x="2291040" y="4554360"/>
                <a:ext cx="131760" cy="3826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2225520" y="4618080"/>
                <a:ext cx="263520" cy="255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5" name=""/>
            <p:cNvSpPr/>
            <p:nvPr/>
          </p:nvSpPr>
          <p:spPr>
            <a:xfrm>
              <a:off x="2357280" y="4273560"/>
              <a:ext cx="0" cy="27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>
              <a:off x="3701880" y="3958920"/>
              <a:ext cx="0" cy="72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1880" y="3959280"/>
              <a:ext cx="714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131920" y="1577880"/>
              <a:ext cx="0" cy="152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770840" y="1986120"/>
              <a:ext cx="47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F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109960" y="5165640"/>
              <a:ext cx="0" cy="26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517200" y="5384880"/>
              <a:ext cx="596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SCL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528000" y="5761080"/>
              <a:ext cx="485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Times New Roman"/>
                </a:rPr>
                <a:t>SD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559480" y="4878360"/>
              <a:ext cx="0" cy="31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5152680" y="4873680"/>
              <a:ext cx="40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>
              <a:off x="5153040" y="4437000"/>
              <a:ext cx="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395520" y="5613480"/>
              <a:ext cx="1487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400560" y="5767560"/>
              <a:ext cx="1631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4883040" y="4427640"/>
              <a:ext cx="0" cy="117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5025960" y="4437000"/>
              <a:ext cx="0" cy="133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368440" y="1465200"/>
              <a:ext cx="433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000240" y="1784520"/>
              <a:ext cx="65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065400" y="1464840"/>
              <a:ext cx="0" cy="3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2328840" y="1784520"/>
              <a:ext cx="473040" cy="0"/>
            </a:xfrm>
            <a:prstGeom prst="line">
              <a:avLst/>
            </a:prstGeom>
            <a:ln w="158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911320" y="2720880"/>
              <a:ext cx="42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V="1">
              <a:off x="3328920" y="2039760"/>
              <a:ext cx="0" cy="681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00240" y="2039760"/>
              <a:ext cx="0" cy="3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2406240" y="2422440"/>
              <a:ext cx="593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406600" y="2422440"/>
              <a:ext cx="0" cy="7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041800" y="5591160"/>
              <a:ext cx="5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6 p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022400" y="5819760"/>
              <a:ext cx="52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200" spc="-1" strike="noStrike">
                  <a:solidFill>
                    <a:srgbClr val="000000"/>
                  </a:solidFill>
                  <a:latin typeface="Times New Roman"/>
                </a:rPr>
                <a:t>2 p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625920" y="4348080"/>
              <a:ext cx="105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cc99"/>
                  </a:solidFill>
                  <a:latin typeface="Times New Roman"/>
                </a:rPr>
                <a:t>Ear_Detec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6195960" y="3087360"/>
              <a:ext cx="0" cy="29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V="1">
              <a:off x="4108320" y="2039400"/>
              <a:ext cx="0" cy="52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263680" y="955800"/>
              <a:ext cx="527040" cy="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341360" y="3422520"/>
              <a:ext cx="527040" cy="0"/>
            </a:xfrm>
            <a:prstGeom prst="line">
              <a:avLst/>
            </a:prstGeom>
            <a:ln w="15840">
              <a:solidFill>
                <a:srgbClr val="008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295280" y="838080"/>
              <a:ext cx="1187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EMP_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58960" y="3214800"/>
              <a:ext cx="1090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66cc"/>
                  </a:solidFill>
                  <a:latin typeface="Times New Roman"/>
                </a:rPr>
                <a:t>TEMP_S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229360" y="1457280"/>
              <a:ext cx="330120" cy="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708440" y="1344600"/>
              <a:ext cx="725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PAE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141880" y="2757600"/>
              <a:ext cx="0" cy="3823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876920" y="2590920"/>
              <a:ext cx="723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A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802040" y="896760"/>
              <a:ext cx="471600" cy="19080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7120" y="896760"/>
              <a:ext cx="64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Att_2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802040" y="1087560"/>
              <a:ext cx="471600" cy="191880"/>
            </a:xfrm>
            <a:prstGeom prst="rect">
              <a:avLst/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767120" y="1087560"/>
              <a:ext cx="649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000" spc="-1" strike="noStrike">
                  <a:solidFill>
                    <a:srgbClr val="000000"/>
                  </a:solidFill>
                  <a:latin typeface="Times New Roman"/>
                </a:rPr>
                <a:t>Att_2d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54480" y="987480"/>
              <a:ext cx="54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270400" y="984240"/>
              <a:ext cx="274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4267080" y="1176480"/>
              <a:ext cx="54612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272200" y="1171440"/>
              <a:ext cx="279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350040" y="641520"/>
              <a:ext cx="0" cy="25524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V="1">
              <a:off x="5586480" y="2938320"/>
              <a:ext cx="0" cy="19224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V="1">
              <a:off x="5580000" y="2746080"/>
              <a:ext cx="6480" cy="250920"/>
            </a:xfrm>
            <a:prstGeom prst="line">
              <a:avLst/>
            </a:prstGeom>
            <a:ln w="1584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875200" y="3457440"/>
              <a:ext cx="100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997760" y="1023840"/>
              <a:ext cx="0" cy="319320"/>
            </a:xfrm>
            <a:prstGeom prst="line">
              <a:avLst/>
            </a:prstGeom>
            <a:ln w="158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975440" y="1012680"/>
              <a:ext cx="9223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GSM_TX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602320" y="2703600"/>
              <a:ext cx="9237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SM_TXE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5470560" y="44272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602480" y="5597640"/>
              <a:ext cx="460440" cy="19044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051760" y="5565600"/>
              <a:ext cx="593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Times New Roman"/>
                </a:rPr>
                <a:t>GP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868480" y="4703760"/>
              <a:ext cx="5270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eceiv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119480" y="254952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987720" y="261936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844800" y="2689200"/>
              <a:ext cx="72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570560" y="2689200"/>
              <a:ext cx="0" cy="441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02320" y="2619360"/>
              <a:ext cx="0" cy="511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834080" y="2556000"/>
              <a:ext cx="0" cy="57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607160" y="5900760"/>
              <a:ext cx="462240" cy="190440"/>
            </a:xfrm>
            <a:prstGeom prst="rect">
              <a:avLst/>
            </a:prstGeom>
            <a:solidFill>
              <a:srgbClr val="ff66cc"/>
            </a:solidFill>
            <a:ln w="9360">
              <a:solidFill>
                <a:srgbClr val="ff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8058240" y="5867280"/>
              <a:ext cx="592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66cc"/>
                  </a:solidFill>
                  <a:latin typeface="Times New Roman"/>
                </a:rPr>
                <a:t>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16480" y="4289400"/>
              <a:ext cx="0" cy="38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592440" y="364500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764520" y="3470400"/>
              <a:ext cx="619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2KH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598920" y="3497400"/>
              <a:ext cx="806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98920" y="3359160"/>
              <a:ext cx="8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3600" y="3214800"/>
              <a:ext cx="801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1014120" y="2257560"/>
              <a:ext cx="540360" cy="387720"/>
              <a:chOff x="1014120" y="2257560"/>
              <a:chExt cx="540360" cy="387720"/>
            </a:xfrm>
          </p:grpSpPr>
          <p:sp>
            <p:nvSpPr>
              <p:cNvPr id="226" name=""/>
              <p:cNvSpPr/>
              <p:nvPr/>
            </p:nvSpPr>
            <p:spPr>
              <a:xfrm>
                <a:off x="1015200" y="2257560"/>
                <a:ext cx="461160" cy="383400"/>
              </a:xfrm>
              <a:prstGeom prst="rect">
                <a:avLst/>
              </a:prstGeom>
              <a:solidFill>
                <a:srgbClr val="ccc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014120" y="2307960"/>
                <a:ext cx="54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imes New Roman"/>
                  </a:rPr>
                  <a:t>SIM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 flipH="1">
              <a:off x="1472760" y="2438280"/>
              <a:ext cx="46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933560" y="2438280"/>
              <a:ext cx="0" cy="701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03600" y="3805200"/>
              <a:ext cx="808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709800" y="3637080"/>
              <a:ext cx="692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IM I/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1263600" y="4032000"/>
              <a:ext cx="0" cy="64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1008000" y="3664080"/>
              <a:ext cx="533160" cy="379080"/>
              <a:chOff x="1008000" y="3664080"/>
              <a:chExt cx="533160" cy="379080"/>
            </a:xfrm>
          </p:grpSpPr>
          <p:sp>
            <p:nvSpPr>
              <p:cNvPr id="234" name=""/>
              <p:cNvSpPr/>
              <p:nvPr/>
            </p:nvSpPr>
            <p:spPr>
              <a:xfrm>
                <a:off x="1008000" y="3788280"/>
                <a:ext cx="533160" cy="24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3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Li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Battery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5" name=""/>
              <p:cNvGrpSpPr/>
              <p:nvPr/>
            </p:nvGrpSpPr>
            <p:grpSpPr>
              <a:xfrm>
                <a:off x="1077840" y="3664080"/>
                <a:ext cx="380880" cy="379080"/>
                <a:chOff x="1077840" y="3664080"/>
                <a:chExt cx="380880" cy="37908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1077840" y="3744720"/>
                  <a:ext cx="380880" cy="298440"/>
                </a:xfrm>
                <a:prstGeom prst="rect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1141200" y="3664080"/>
                  <a:ext cx="76320" cy="7452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1325520" y="3664080"/>
                  <a:ext cx="75960" cy="74520"/>
                </a:xfrm>
                <a:prstGeom prst="rect">
                  <a:avLst/>
                </a:prstGeom>
                <a:noFill/>
                <a:ln w="158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39" name=""/>
            <p:cNvSpPr/>
            <p:nvPr/>
          </p:nvSpPr>
          <p:spPr>
            <a:xfrm flipV="1">
              <a:off x="1258920" y="5017680"/>
              <a:ext cx="0" cy="2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73080" y="5197320"/>
              <a:ext cx="7254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harger I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3833280" y="4282920"/>
              <a:ext cx="567000" cy="0"/>
            </a:xfrm>
            <a:prstGeom prst="line">
              <a:avLst/>
            </a:prstGeom>
            <a:ln w="15840">
              <a:solidFill>
                <a:srgbClr val="3333cc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911760" y="4081320"/>
              <a:ext cx="605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SCS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481720" y="5607000"/>
              <a:ext cx="263520" cy="255600"/>
            </a:xfrm>
            <a:prstGeom prst="sun">
              <a:avLst>
                <a:gd name="adj" fmla="val 25000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84400" y="4896000"/>
              <a:ext cx="668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Vibr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471760" y="5124600"/>
              <a:ext cx="666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400480" y="5133960"/>
              <a:ext cx="666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527800" y="4946760"/>
              <a:ext cx="648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521320" y="5010120"/>
              <a:ext cx="6660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305160" y="2271600"/>
              <a:ext cx="6516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92560" y="2325600"/>
              <a:ext cx="6516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970360" y="2239920"/>
              <a:ext cx="64800" cy="6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962440" y="2293920"/>
              <a:ext cx="666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440240" y="1878120"/>
              <a:ext cx="6516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383000" y="1887480"/>
              <a:ext cx="66600" cy="65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24400" y="1757520"/>
              <a:ext cx="66600" cy="63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483080" y="1749600"/>
              <a:ext cx="6516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2104920" y="5160960"/>
              <a:ext cx="2668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V="1">
              <a:off x="4767120" y="4431960"/>
              <a:ext cx="0" cy="73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473800" y="4654440"/>
              <a:ext cx="10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6532560" y="4657680"/>
              <a:ext cx="0" cy="54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86440" y="4017960"/>
              <a:ext cx="604800" cy="455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907320" y="4046400"/>
              <a:ext cx="555480" cy="337320"/>
            </a:xfrm>
            <a:prstGeom prst="rect">
              <a:avLst/>
            </a:prstGeom>
            <a:solidFill>
              <a:srgbClr val="ccccff"/>
            </a:solidFill>
            <a:ln w="25560">
              <a:solidFill>
                <a:srgbClr val="cc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SRAM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Times New Roman"/>
                </a:rPr>
                <a:t>2Mbi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624720" y="3651120"/>
              <a:ext cx="0" cy="4460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624720" y="4097160"/>
              <a:ext cx="26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492960" y="3841920"/>
              <a:ext cx="0" cy="3841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92960" y="4226040"/>
              <a:ext cx="39528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864400" y="4397400"/>
              <a:ext cx="101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966640" y="4181400"/>
              <a:ext cx="520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CS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825480" y="3895560"/>
              <a:ext cx="262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4383E-5673-49C4-96F8-68CC2A7835B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271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72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7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74" name=""/>
          <p:cNvSpPr/>
          <p:nvPr/>
        </p:nvSpPr>
        <p:spPr>
          <a:xfrm>
            <a:off x="2136600" y="152280"/>
            <a:ext cx="44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ffffff"/>
                </a:solidFill>
                <a:latin typeface="Arial"/>
              </a:rPr>
              <a:t>RF Tranceiver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685800" y="1828800"/>
            <a:ext cx="7772400" cy="4267080"/>
            <a:chOff x="685800" y="1828800"/>
            <a:chExt cx="7772400" cy="4267080"/>
          </a:xfrm>
        </p:grpSpPr>
        <p:pic>
          <p:nvPicPr>
            <p:cNvPr id="276" name="" descr=""/>
            <p:cNvPicPr/>
            <p:nvPr/>
          </p:nvPicPr>
          <p:blipFill>
            <a:blip r:embed="rId3"/>
            <a:stretch/>
          </p:blipFill>
          <p:spPr>
            <a:xfrm>
              <a:off x="685800" y="1828800"/>
              <a:ext cx="7772400" cy="426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7646040" y="4257720"/>
              <a:ext cx="0" cy="1050120"/>
            </a:xfrm>
            <a:prstGeom prst="line">
              <a:avLst/>
            </a:prstGeom>
            <a:ln w="38160">
              <a:solidFill>
                <a:srgbClr val="000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1860120" y="5307840"/>
              <a:ext cx="5785560" cy="0"/>
            </a:xfrm>
            <a:prstGeom prst="line">
              <a:avLst/>
            </a:prstGeom>
            <a:ln w="38160">
              <a:solidFill>
                <a:srgbClr val="00008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505880" y="2692800"/>
              <a:ext cx="5386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lg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059920" y="3141720"/>
              <a:ext cx="3191760" cy="1509480"/>
            </a:xfrm>
            <a:prstGeom prst="ellipse">
              <a:avLst/>
            </a:pr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323520" y="3602520"/>
              <a:ext cx="86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cc99"/>
                  </a:solidFill>
                  <a:latin typeface="Arial Black"/>
                  <a:ea typeface="Arial Unicode MS"/>
                </a:rPr>
                <a:t>P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2857680" y="2024280"/>
              <a:ext cx="30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Arial"/>
                  <a:ea typeface="Arial Unicode MS"/>
                </a:rPr>
                <a:t>Transmit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857680" y="5572080"/>
              <a:ext cx="3058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  <a:ea typeface="Arial Unicode MS"/>
                </a:rPr>
                <a:t>Receiver Pat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610560" y="838080"/>
            <a:ext cx="489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The TRF6151 is a quad-band transceiver 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Support GPRS class 12 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2351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Can use crystal or VTCX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SzPct val="12351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6A3E0-4BF8-4866-B1F7-56B0FBEFBD7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5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286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87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8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990720" y="1828800"/>
            <a:ext cx="7010280" cy="414504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762120" y="8380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divider by 4 for the LO generation in GSM900 and GSM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divider by 2 for the LO generation in DCS1800 and PCS1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41880" y="152280"/>
            <a:ext cx="36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eiver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83B2D-3803-4A69-9BAA-4F95D93E233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2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293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4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296" name=""/>
          <p:cNvSpPr/>
          <p:nvPr/>
        </p:nvSpPr>
        <p:spPr>
          <a:xfrm>
            <a:off x="2440080" y="152280"/>
            <a:ext cx="36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mit Block Diag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62120" y="838080"/>
            <a:ext cx="76960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divider by 4 for the LO generation in GSM900 and GSM8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A divider by 2 for the LO generation in DCS1800 and PCS19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304920" y="2286000"/>
            <a:ext cx="8677080" cy="31734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3352680" y="2743200"/>
            <a:ext cx="3124440" cy="1523880"/>
          </a:xfrm>
          <a:prstGeom prst="ellipse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495680" y="32767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P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E8CE6-9505-43FB-962A-E7A7358C53A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"/>
          <p:cNvGrpSpPr/>
          <p:nvPr/>
        </p:nvGrpSpPr>
        <p:grpSpPr>
          <a:xfrm>
            <a:off x="0" y="0"/>
            <a:ext cx="4038480" cy="328320"/>
            <a:chOff x="0" y="0"/>
            <a:chExt cx="4038480" cy="328320"/>
          </a:xfrm>
        </p:grpSpPr>
        <p:sp>
          <p:nvSpPr>
            <p:cNvPr id="302" name=""/>
            <p:cNvSpPr/>
            <p:nvPr/>
          </p:nvSpPr>
          <p:spPr>
            <a:xfrm>
              <a:off x="457200" y="0"/>
              <a:ext cx="35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COMPAL COMMUNICATIONS, INC.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3" name=""/>
            <p:cNvGraphicFramePr/>
            <p:nvPr/>
          </p:nvGraphicFramePr>
          <p:xfrm>
            <a:off x="0" y="0"/>
            <a:ext cx="533520" cy="328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0"/>
                      <a:ext cx="533520" cy="328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5" name=""/>
          <p:cNvSpPr/>
          <p:nvPr/>
        </p:nvSpPr>
        <p:spPr>
          <a:xfrm>
            <a:off x="2896920" y="152280"/>
            <a:ext cx="275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F Crystal Circu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3"/>
          <a:stretch/>
        </p:blipFill>
        <p:spPr>
          <a:xfrm>
            <a:off x="1066680" y="1600200"/>
            <a:ext cx="6934320" cy="42591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838080" y="762120"/>
            <a:ext cx="7696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TRF6151 VCXO uses the Clapp colpitts oscillator top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SzPct val="12351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TW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Negative resistance and temperature characteristi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D9B56-57F7-4E53-81C2-0543D9B842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2:28:55Z</dcterms:created>
  <dc:creator>teddy_chou</dc:creator>
  <dc:description/>
  <dc:language>en-US</dc:language>
  <cp:lastModifiedBy>eleven</cp:lastModifiedBy>
  <dcterms:modified xsi:type="dcterms:W3CDTF">2004-04-09T04:03:58Z</dcterms:modified>
  <cp:revision>32</cp:revision>
  <dc:subject/>
  <dc:title>PowerPoint 簡報</dc:title>
</cp:coreProperties>
</file>