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C6C7A5-9AD6-41DB-BCFE-1588E316CF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9F9A2-1163-4592-BC9F-1158643898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C5D3A-61A0-41CA-8A67-43F5CCD22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220B2-1BF6-4DF3-B9BA-A508A02FFB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4E135-6CBE-4C93-958B-8A49253052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3B8790-6B4F-49F6-B8C0-DB84B4995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C770-DAA7-43C0-93D3-9212E45BA9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EE93E-59FA-4C48-8CE5-3079E9B72AE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C0359A-80C5-45F5-87E3-83115DBE40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BB363-3BDA-4E56-B2C5-B2147545BE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3678-17DF-4AD0-8C53-EDD58E7E58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1AC94E-C072-4DF8-9667-69C94E4018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5F6F2-DC4A-44D4-8335-6BC5DA0EEEAF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7000" y="144360"/>
            <a:ext cx="129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HEAD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71600" y="2362320"/>
            <a:ext cx="662940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SimSun"/>
              </a:rPr>
              <a:t>C115 RF Trouble Shoot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esent by Allan_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2AFFA7-EA27-4C8D-9A55-E92D8CFEE2E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5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54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55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56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7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8" name=""/>
          <p:cNvSpPr/>
          <p:nvPr/>
        </p:nvSpPr>
        <p:spPr>
          <a:xfrm>
            <a:off x="1752480" y="152280"/>
            <a:ext cx="792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TR switch) in DCS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D2G1" descr=""/>
          <p:cNvPicPr/>
          <p:nvPr/>
        </p:nvPicPr>
        <p:blipFill>
          <a:blip r:embed="rId5"/>
          <a:stretch/>
        </p:blipFill>
        <p:spPr>
          <a:xfrm>
            <a:off x="228600" y="2819520"/>
            <a:ext cx="39639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0" name=""/>
          <p:cNvGraphicFramePr/>
          <p:nvPr/>
        </p:nvGraphicFramePr>
        <p:xfrm>
          <a:off x="4419720" y="2971800"/>
          <a:ext cx="4572000" cy="2959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19720" y="2971800"/>
                    <a:ext cx="45720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029200" y="4114800"/>
            <a:ext cx="13032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352680" y="3276720"/>
            <a:ext cx="7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358128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V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143000" y="373392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464832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2514600" y="4114800"/>
            <a:ext cx="0" cy="5335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762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U17 Pin5(R85)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733920" y="3505320"/>
            <a:ext cx="1218960" cy="6094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926C3-AB7D-4A82-96FB-E2EF303DA8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47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8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0" name=""/>
          <p:cNvSpPr/>
          <p:nvPr/>
        </p:nvSpPr>
        <p:spPr>
          <a:xfrm>
            <a:off x="1295280" y="990720"/>
            <a:ext cx="61722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F 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ranceiver</a:t>
            </a:r>
            <a:r>
              <a:rPr b="0" lang="zh-TW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 (I/Q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L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P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Tx path(TR switch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D2905-C409-4532-9040-13248BD4837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5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5" name=""/>
          <p:cNvSpPr/>
          <p:nvPr/>
        </p:nvSpPr>
        <p:spPr>
          <a:xfrm>
            <a:off x="1983960" y="1522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RF Tran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85800"/>
            <a:ext cx="8991360" cy="5486040"/>
            <a:chOff x="0" y="685800"/>
            <a:chExt cx="8991360" cy="5486040"/>
          </a:xfrm>
        </p:grpSpPr>
        <p:pic>
          <p:nvPicPr>
            <p:cNvPr id="57" name="" descr=""/>
            <p:cNvPicPr/>
            <p:nvPr/>
          </p:nvPicPr>
          <p:blipFill>
            <a:blip r:embed="rId3"/>
            <a:stretch/>
          </p:blipFill>
          <p:spPr>
            <a:xfrm>
              <a:off x="0" y="685800"/>
              <a:ext cx="899136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8052120" y="3808440"/>
              <a:ext cx="0" cy="135036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358640" y="5159160"/>
              <a:ext cx="669312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948960" y="1796760"/>
              <a:ext cx="623124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589760" y="2373840"/>
              <a:ext cx="3692520" cy="194076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051360" y="2966400"/>
              <a:ext cx="1001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 Black"/>
                  <a:ea typeface="Arial Unicode MS"/>
                </a:rPr>
                <a:t>P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12800" y="937080"/>
              <a:ext cx="35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Transmit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512800" y="5498640"/>
              <a:ext cx="3538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eceiver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7467C-0365-470A-983D-1F099285F6D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66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67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9" name=""/>
          <p:cNvSpPr/>
          <p:nvPr/>
        </p:nvSpPr>
        <p:spPr>
          <a:xfrm>
            <a:off x="76212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 (I/Q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76212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 Use oscilloscope probe to touch </a:t>
            </a:r>
            <a:r>
              <a:rPr b="0" lang="zh-TW" sz="1800" spc="-1" strike="noStrike">
                <a:solidFill>
                  <a:srgbClr val="ff3300"/>
                </a:solidFill>
                <a:latin typeface="Arial"/>
              </a:rPr>
              <a:t>red poi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and you can find that(For     Example:The TXIP sig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52280" y="3048120"/>
          <a:ext cx="4280040" cy="2253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3048120"/>
                    <a:ext cx="4280040" cy="22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3" name="D2G11" descr=""/>
          <p:cNvPicPr/>
          <p:nvPr/>
        </p:nvPicPr>
        <p:blipFill>
          <a:blip r:embed="rId5"/>
          <a:stretch/>
        </p:blipFill>
        <p:spPr>
          <a:xfrm>
            <a:off x="4800600" y="259092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301920" y="41022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295800" y="4311720"/>
            <a:ext cx="7596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01920" y="474336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95800" y="488952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2120" y="297180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77760" y="293364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829480" y="3505320"/>
            <a:ext cx="137160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713D-58CC-4152-862A-6D8FA913229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8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5" name=""/>
          <p:cNvSpPr/>
          <p:nvPr/>
        </p:nvSpPr>
        <p:spPr>
          <a:xfrm>
            <a:off x="76212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 (I/Q) in DCS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685800"/>
            <a:ext cx="84582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54160" indent="-2541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3.Use oscilloscope probe to touch </a:t>
            </a:r>
            <a:r>
              <a:rPr b="0" lang="zh-TW" sz="1800" spc="-1" strike="noStrike">
                <a:solidFill>
                  <a:srgbClr val="ff3300"/>
                </a:solidFill>
                <a:latin typeface="Arial"/>
              </a:rPr>
              <a:t>red point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and you can find wave(For     Example:The TXIP sign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52280" y="2971800"/>
          <a:ext cx="4280040" cy="2254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280" y="2971800"/>
                    <a:ext cx="4280040" cy="225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D2G11" descr=""/>
          <p:cNvPicPr/>
          <p:nvPr/>
        </p:nvPicPr>
        <p:blipFill>
          <a:blip r:embed="rId5"/>
          <a:stretch/>
        </p:blipFill>
        <p:spPr>
          <a:xfrm>
            <a:off x="4800600" y="2514600"/>
            <a:ext cx="4114800" cy="308448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301920" y="40258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95800" y="42354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01920" y="4667400"/>
            <a:ext cx="76320" cy="759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295800" y="4813200"/>
            <a:ext cx="7596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895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77760" y="2857680"/>
            <a:ext cx="1155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829480" y="3429000"/>
            <a:ext cx="1371600" cy="114300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CA7EF-4E82-4DCA-8101-93ED1DE1297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98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99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01" name=""/>
          <p:cNvSpPr/>
          <p:nvPr/>
        </p:nvSpPr>
        <p:spPr>
          <a:xfrm>
            <a:off x="2286000" y="1522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LO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280" y="685800"/>
            <a:ext cx="899172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(CH699:1747.6MHz), cell power:-60dBm, MS_TX_level : 5(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spectrum probe to touch </a:t>
            </a:r>
            <a:r>
              <a:rPr b="0" lang="zh-TW" sz="1800" spc="-1" strike="noStrike">
                <a:solidFill>
                  <a:srgbClr val="ff3300"/>
                </a:solidFill>
                <a:latin typeface="Tahoma"/>
              </a:rPr>
              <a:t>red point ~ 5dB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(CH=62_902.4MHz, RBW=VBW=200KHz, attenuation=20d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778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TX signal1 : Use spectrum probe to touch </a:t>
            </a:r>
            <a:r>
              <a:rPr b="0" lang="zh-TW" sz="1800" spc="-1" strike="noStrike">
                <a:solidFill>
                  <a:srgbClr val="ff3300"/>
                </a:solidFill>
                <a:latin typeface="Tahoma"/>
              </a:rPr>
              <a:t>red point ~ 3dBm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(CH=699_1747.6MHz, RBW=VBW=200KHz, attenuation=20dB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299200" y="385776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26320" y="3382920"/>
            <a:ext cx="196920" cy="1857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010280" y="3352680"/>
            <a:ext cx="128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Probe 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1981080" y="2971800"/>
          <a:ext cx="4648320" cy="3200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971800"/>
                    <a:ext cx="4648320" cy="3200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8" name=""/>
          <p:cNvSpPr/>
          <p:nvPr/>
        </p:nvSpPr>
        <p:spPr>
          <a:xfrm>
            <a:off x="5334120" y="384804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359320" y="5130720"/>
            <a:ext cx="13032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C05CD-8BF1-4A86-B7CE-25F1DE4DCA3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1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1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4" name=""/>
          <p:cNvSpPr/>
          <p:nvPr/>
        </p:nvSpPr>
        <p:spPr>
          <a:xfrm>
            <a:off x="2438280" y="15228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PA) in GSM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28600" y="2514600"/>
          <a:ext cx="4724280" cy="32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514600"/>
                    <a:ext cx="472428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4191120" y="260352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D2G" descr=""/>
          <p:cNvPicPr/>
          <p:nvPr/>
        </p:nvPicPr>
        <p:blipFill>
          <a:blip r:embed="rId5"/>
          <a:stretch/>
        </p:blipFill>
        <p:spPr>
          <a:xfrm>
            <a:off x="5256360" y="2666880"/>
            <a:ext cx="3887640" cy="291492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095880" y="3352680"/>
            <a:ext cx="243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(APC Wav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4343400" y="2742840"/>
            <a:ext cx="175248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28600" y="68580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: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TX signal1 : Use oscilloscope probe to touch R66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23164-4112-4589-8DAC-694DF545490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23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24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2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26" name=""/>
          <p:cNvSpPr/>
          <p:nvPr/>
        </p:nvSpPr>
        <p:spPr>
          <a:xfrm>
            <a:off x="2438280" y="15228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PA) in DCS B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28600" y="68580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99:1747.6MHz, cell power:-60dBm, MS_TX_level : 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R66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228600" y="2286000"/>
          <a:ext cx="4724280" cy="3228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28600" y="2286000"/>
                    <a:ext cx="4724280" cy="32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"/>
          <p:cNvSpPr/>
          <p:nvPr/>
        </p:nvSpPr>
        <p:spPr>
          <a:xfrm>
            <a:off x="4191120" y="237492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D2G" descr=""/>
          <p:cNvPicPr/>
          <p:nvPr/>
        </p:nvPicPr>
        <p:blipFill>
          <a:blip r:embed="rId5"/>
          <a:stretch/>
        </p:blipFill>
        <p:spPr>
          <a:xfrm>
            <a:off x="5256360" y="2438280"/>
            <a:ext cx="3887640" cy="291492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6095880" y="31240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1238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4343400" y="2514240"/>
            <a:ext cx="1752480" cy="76212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C1C1A1-D82E-4EA1-A2BD-3453EAABBE1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135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6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3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38" name=""/>
          <p:cNvSpPr/>
          <p:nvPr/>
        </p:nvSpPr>
        <p:spPr>
          <a:xfrm>
            <a:off x="1828800" y="1522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Tahoma"/>
              </a:rPr>
              <a:t>Tx path(TR switch) in GSM Ban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D2G1" descr=""/>
          <p:cNvPicPr/>
          <p:nvPr/>
        </p:nvPicPr>
        <p:blipFill>
          <a:blip r:embed="rId3"/>
          <a:stretch/>
        </p:blipFill>
        <p:spPr>
          <a:xfrm>
            <a:off x="5029200" y="2895480"/>
            <a:ext cx="3963960" cy="29718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0" name=""/>
          <p:cNvGraphicFramePr/>
          <p:nvPr/>
        </p:nvGraphicFramePr>
        <p:xfrm>
          <a:off x="152280" y="2895480"/>
          <a:ext cx="4572000" cy="2959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895480"/>
                    <a:ext cx="4572000" cy="295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3924360" y="4343400"/>
            <a:ext cx="129960" cy="1238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1040" bIns="41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4440" y="4394160"/>
            <a:ext cx="121932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4120" y="42670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Signal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410080" y="36576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VC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3809880"/>
            <a:ext cx="45720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086600" y="472428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  <a:ea typeface="Arial Unicode MS"/>
              </a:rPr>
              <a:t>AP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7315200" y="4190760"/>
            <a:ext cx="0" cy="533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762120"/>
            <a:ext cx="89154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1.Set HP8960 or HP8922,Operating mode:Test mode,Test function:BCH+T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CH62:902.4MHz, cell power:-60dBm, MS_TX_level :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TX signal1 : Use oscilloscope probe to touch U17 Pin8(R83) to get signal1 wa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57DF0A-BAB1-4B25-9E68-8442DF6BFA6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COMPAL</cp:lastModifiedBy>
  <dcterms:modified xsi:type="dcterms:W3CDTF">2004-03-30T06:03:58Z</dcterms:modified>
  <cp:revision>32</cp:revision>
  <dc:subject/>
  <dc:title>PowerPoint 簡報</dc:title>
</cp:coreProperties>
</file>