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4.wmf" ContentType="image/x-wmf"/>
  <Override PartName="/ppt/media/image2.jpeg" ContentType="image/jpeg"/>
  <Override PartName="/ppt/media/image3.jpeg" ContentType="image/jpeg"/>
  <Override PartName="/ppt/media/image15.png" ContentType="image/png"/>
  <Override PartName="/ppt/media/image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B69A-B97A-4B4C-8A75-E1EDD00D5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4614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B123-A099-4A80-A181-6DDB2C555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216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7845-DFB6-4E50-BDAC-E346D2971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512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512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52D5-665B-4E5E-9359-17416205D2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19F5-BBBE-4091-9D08-EEDD1295C6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AF46-DE22-4166-A6EA-33D37B764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8AFF-AB1F-428C-B54F-D471680E2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AB5E-E569-4F89-BE1A-DAD262C05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9E41-D30F-42CD-9155-E5699D88A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E714-C23B-4803-B473-0E9B28A95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216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E968-85CF-4B8C-88A1-06EC28297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6649-142F-46DE-A011-0C6F63810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itle1_365a" descr=""/>
          <p:cNvPicPr/>
          <p:nvPr/>
        </p:nvPicPr>
        <p:blipFill>
          <a:blip r:embed="rId2"/>
          <a:stretch/>
        </p:blipFill>
        <p:spPr>
          <a:xfrm>
            <a:off x="533520" y="0"/>
            <a:ext cx="861048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6711840" y="152280"/>
            <a:ext cx="23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Company Confident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compal_logo" descr=""/>
          <p:cNvPicPr/>
          <p:nvPr/>
        </p:nvPicPr>
        <p:blipFill>
          <a:blip r:embed="rId3"/>
          <a:stretch/>
        </p:blipFill>
        <p:spPr>
          <a:xfrm>
            <a:off x="0" y="0"/>
            <a:ext cx="762120" cy="542880"/>
          </a:xfrm>
          <a:prstGeom prst="rect">
            <a:avLst/>
          </a:prstGeom>
          <a:ln w="0">
            <a:noFill/>
          </a:ln>
        </p:spPr>
      </p:pic>
      <p:pic>
        <p:nvPicPr>
          <p:cNvPr id="4" name="title2_365" descr=""/>
          <p:cNvPicPr/>
          <p:nvPr/>
        </p:nvPicPr>
        <p:blipFill>
          <a:blip r:embed="rId4"/>
          <a:stretch/>
        </p:blipFill>
        <p:spPr>
          <a:xfrm>
            <a:off x="0" y="6224760"/>
            <a:ext cx="9144000" cy="633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27432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7252-63DD-4986-A4C9-E97FC4BAD926}" type="slidenum"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990720"/>
            <a:ext cx="72388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. The mobile phone can’t boot after inserting the  Bat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. SIM unavailable when insert SIM after turn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. Display no response after turn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. Keypad’s and LCM backlight no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. Receiver has no key 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. No ring 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. Main battery Can not be char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. Keypad no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. Vibrator out of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. Microphone no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. Earphone no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. Can not record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. Can not Char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DFCFA-983B-40B4-8844-8C84D20F63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26880" y="533520"/>
            <a:ext cx="63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. Main battery Can not be charging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990720"/>
            <a:ext cx="74674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 Check the component’s connection and electric characteristi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 Check the Fuse(PT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7128000" cy="411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413E-DB1C-48F6-B0AD-42464966A4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690200" y="609480"/>
            <a:ext cx="35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. Keypad no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066680"/>
            <a:ext cx="74678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 If the connector is oxidized or dirty-&gt;Use a eraser to clean the pa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3. Check the ROW  and 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22860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U7 CalpysoL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66680" y="3124080"/>
          <a:ext cx="601992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124080"/>
                    <a:ext cx="601992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84CCF-F64E-42F0-BD6B-C9F1E3CEF5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71200" y="53352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Vibrator out of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990720"/>
            <a:ext cx="7543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 Check the setting. 2. Check the vibrator’s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3. Check the vib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4. Is the M/B’s pad 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oxidized or dirty-&gt;Use a eraser to clea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/B’s pad. 5. Check the component’s conne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6. Check BQ1.3 (normal &gt; 3.4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553440" cy="352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9249-A66F-4E59-91A4-B1F39AA85D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48600" y="533520"/>
            <a:ext cx="41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. Microphone no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990720"/>
            <a:ext cx="7315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 Check the microphone’s impedance(?K oh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 Is the M/B’s pad 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oxidized or dirty-&gt;Use a eraser to clea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/B’s p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3. Check the component’s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7274160" cy="338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BAE6-5646-419C-82F1-2B616FC669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13880" y="5335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. Earphone no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914400"/>
            <a:ext cx="7696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Check the earphone’s impedance, if it inaccuracy  -&gt;replace a ear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 Check the earphone’s Jack and conne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34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71457-3024-474A-824E-FB346F446A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18920" y="5335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. Can not recor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27640" y="1168560"/>
            <a:ext cx="45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 TP46=32.768K, else-&gt;change a new U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600" y="1752480"/>
          <a:ext cx="868680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8680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590920" y="1523880"/>
            <a:ext cx="624816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14600" y="1600200"/>
            <a:ext cx="6172200" cy="3276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22240" y="529920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7-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1EB3-5F44-4307-BFA8-68796DF0B4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533520"/>
            <a:ext cx="7924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M. Can not Char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 MingtiM KSC"/>
                <a:ea typeface="AR MingtiM KSC"/>
              </a:rPr>
              <a:t>1.Check you use the ada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 MingtiM KSC"/>
                <a:ea typeface="AR MingtiM KSC"/>
              </a:rPr>
              <a:t>2.Check I/O Connector failure?</a:t>
            </a:r>
            <a:r>
              <a:rPr b="0" lang="zh-TW" sz="2400" spc="-1" strike="noStrike">
                <a:solidFill>
                  <a:srgbClr val="000000"/>
                </a:solidFill>
                <a:latin typeface="AR MingtiM KSC"/>
                <a:ea typeface="AR MingtiM KS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 MingtiM KSC"/>
                <a:ea typeface="AR MingtiM KSC"/>
              </a:rPr>
              <a:t>3.Check I/O Connector Pin3&amp;Pin4 solder creak?</a:t>
            </a:r>
            <a:r>
              <a:rPr b="0" lang="zh-TW" sz="2400" spc="-1" strike="noStrike">
                <a:solidFill>
                  <a:srgbClr val="000000"/>
                </a:solidFill>
                <a:latin typeface="AR MingtiM KSC"/>
                <a:ea typeface="AR MingtiM KS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 MingtiM KSC"/>
                <a:ea typeface="AR MingtiM KSC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AR MingtiM KSC"/>
                <a:ea typeface="AR MingtiM KSC"/>
              </a:rPr>
              <a:t>.</a:t>
            </a:r>
            <a:r>
              <a:rPr b="0" lang="zh-TW" sz="2400" spc="-1" strike="noStrike">
                <a:solidFill>
                  <a:srgbClr val="000000"/>
                </a:solidFill>
                <a:latin typeface="AR MingtiM KSC"/>
                <a:ea typeface="AR MingtiM KSC"/>
              </a:rPr>
              <a:t>IF 4.1.if step1 is ok, then change a new IOT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5778720" cy="285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03F0-7614-4477-8265-7937288575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80160" y="72720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load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E2532-6538-4D1A-A5DB-CFC6D2F027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167652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 Check energy of the battery.(VBAT&gt;3.8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 Check Battery connector J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624720" cy="2506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6240" y="685800"/>
            <a:ext cx="83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mobile phone can’t boot after inserting the battery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AC24C-7D08-449E-B132-D0549CBF0F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mobile phone can’t boot after inserting the battery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29528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Check the Power-ON p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15000" y="1371600"/>
            <a:ext cx="2217600" cy="1036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5759280" cy="2879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1800000" cy="14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C195-CC31-4BC4-9738-804E71C612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9800" y="609480"/>
            <a:ext cx="75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SIM unavailable when insert SIM after turn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1430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 If the SIM card in other cellph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 Check the SIM connecter(con1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6912000" cy="387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72AD-F1AF-422C-B5C5-81944200B1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46200" y="609480"/>
            <a:ext cx="56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Display no response after turn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143000"/>
            <a:ext cx="701028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Check the pad between M/B and LCM’s FP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 Check the LCM in other cell-ph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3. If  VRIO_2.8V =2.8V (if VRIO_2.8V &lt;2.7V, the LCD will not wo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792000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26587-675F-414B-A419-F84EBEB043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36440" y="608040"/>
            <a:ext cx="67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 Keypad’s and LCM backlight no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143000"/>
            <a:ext cx="45720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 Check the LED D4~D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 KEYLED_EN= 1.4 ~ 2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070840" cy="433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ED0B-86C3-4FF9-A4FA-8DA3721904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70200" y="609480"/>
            <a:ext cx="43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. Receiver has no key 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990720"/>
            <a:ext cx="73152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 If the receiver’s pins slanting or sag-&gt;To adjust the Receiver p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 Measure the receiver’s impedance(about 32 oh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3. M/B pad oxidation or di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4. Check the components’ connection and impedance(R1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5. change a new IO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7920000" cy="293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7DD7C-47B4-469F-A444-D301F40564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83720" y="53352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. No ring 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990720"/>
            <a:ext cx="6400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Check the cellphone set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Check the buzzer conne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3. Check the speaker’s impedance(about ?ohm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4. Check the G2 PWT/BU pin(TP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20108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1785-7DD8-49D6-9512-0AE0BABEA0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26880" y="533520"/>
            <a:ext cx="63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. Main battery Can not be charging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914400"/>
            <a:ext cx="6705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Check if you use the right ada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Check I/O Connector(J13)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 focus on Pin1 and Pin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985080" cy="276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C437-5561-45D9-86FC-21AEF4FE3D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2:28:55Z</dcterms:created>
  <dc:creator>teddy_chou</dc:creator>
  <dc:description/>
  <dc:language>en-US</dc:language>
  <cp:lastModifiedBy>eleven</cp:lastModifiedBy>
  <dcterms:modified xsi:type="dcterms:W3CDTF">2004-04-08T01:58:53Z</dcterms:modified>
  <cp:revision>43</cp:revision>
  <dc:subject/>
  <dc:title>PowerPoint 簡報</dc:title>
</cp:coreProperties>
</file>