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76F2-F556-4EBA-A97B-1DE300C3D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4614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8A20-1198-4743-BAD6-9D624A5A8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CCF4-1276-4E1A-8628-EFACCA668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C50C-E2F3-4E26-AB65-0115CEED40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32F0-67D3-4E62-B1EA-F1981BD109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B751-9441-49CF-9600-484B40E2C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163D-C850-4399-B3D5-60D002501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08EE-8D32-4E28-B720-7136D1EB9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2895-6E34-44D6-B7FD-41091130D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3DF4-B3CF-4BC2-A89F-61A4AE1F0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460E-DDA0-4623-BAA9-2321ABECC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926F-3F24-4633-B7AF-3528A3A48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itle1_365a" descr=""/>
          <p:cNvPicPr/>
          <p:nvPr/>
        </p:nvPicPr>
        <p:blipFill>
          <a:blip r:embed="rId2"/>
          <a:stretch/>
        </p:blipFill>
        <p:spPr>
          <a:xfrm>
            <a:off x="533520" y="0"/>
            <a:ext cx="861048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6711840" y="152280"/>
            <a:ext cx="23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Company Confident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compal_logo" descr=""/>
          <p:cNvPicPr/>
          <p:nvPr/>
        </p:nvPicPr>
        <p:blipFill>
          <a:blip r:embed="rId3"/>
          <a:stretch/>
        </p:blipFill>
        <p:spPr>
          <a:xfrm>
            <a:off x="0" y="0"/>
            <a:ext cx="762120" cy="542880"/>
          </a:xfrm>
          <a:prstGeom prst="rect">
            <a:avLst/>
          </a:prstGeom>
          <a:ln w="0">
            <a:noFill/>
          </a:ln>
        </p:spPr>
      </p:pic>
      <p:pic>
        <p:nvPicPr>
          <p:cNvPr id="4" name="title2_365" descr=""/>
          <p:cNvPicPr/>
          <p:nvPr/>
        </p:nvPicPr>
        <p:blipFill>
          <a:blip r:embed="rId4"/>
          <a:stretch/>
        </p:blipFill>
        <p:spPr>
          <a:xfrm>
            <a:off x="0" y="6224760"/>
            <a:ext cx="9144000" cy="63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27432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26C6-C1A5-495D-B035-A0D463F47A41}" type="slidenum"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7000" y="144360"/>
            <a:ext cx="1290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HEADL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362320"/>
            <a:ext cx="533376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SimSun"/>
              </a:rPr>
              <a:t>C115 RF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esent by Allan_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5B8F-860B-400C-B451-077D093699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143000"/>
            <a:ext cx="6705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11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Function Block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RF Tranceiver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(TRF6151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Block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115 RF Recei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115 RF Transmi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RF Crystal Circu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1C94-2852-4FC6-94D7-73A10BB2A4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48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1" name=""/>
          <p:cNvSpPr/>
          <p:nvPr/>
        </p:nvSpPr>
        <p:spPr>
          <a:xfrm>
            <a:off x="609480" y="1522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ction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1440" y="6048360"/>
            <a:ext cx="114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light_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625320"/>
            <a:ext cx="92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SM_TX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75400" y="635040"/>
            <a:ext cx="8622360" cy="5557320"/>
            <a:chOff x="275400" y="635040"/>
            <a:chExt cx="8622360" cy="5557320"/>
          </a:xfrm>
        </p:grpSpPr>
        <p:sp>
          <p:nvSpPr>
            <p:cNvPr id="55" name=""/>
            <p:cNvSpPr/>
            <p:nvPr/>
          </p:nvSpPr>
          <p:spPr>
            <a:xfrm>
              <a:off x="4427640" y="3146400"/>
              <a:ext cx="1438200" cy="12812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35360" y="3513240"/>
              <a:ext cx="989280" cy="106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CPU(G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Calypos L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79560" y="3124080"/>
              <a:ext cx="1701720" cy="11653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13080" y="3490920"/>
              <a:ext cx="726480" cy="36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O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70640" y="896760"/>
              <a:ext cx="1054080" cy="638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54800" y="896760"/>
              <a:ext cx="106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X773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51760" y="1338120"/>
              <a:ext cx="1515960" cy="638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35120" y="1401840"/>
              <a:ext cx="175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/R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MSP43AA-19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11320" y="5421240"/>
              <a:ext cx="1384200" cy="76536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53440" y="5549760"/>
              <a:ext cx="1217160" cy="642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no B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81760" y="3268800"/>
              <a:ext cx="598680" cy="637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32520" y="3357720"/>
              <a:ext cx="515880" cy="4590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T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Flas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6Mb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6440" y="1284120"/>
              <a:ext cx="509400" cy="28260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01800" y="12952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rys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5899320" y="3651120"/>
              <a:ext cx="9889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889600" y="3835080"/>
              <a:ext cx="988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98680" y="3471840"/>
              <a:ext cx="61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[1..22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27400" y="3657600"/>
              <a:ext cx="69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B[0..15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30720" y="5197320"/>
              <a:ext cx="855720" cy="384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19280" y="5235480"/>
              <a:ext cx="8132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p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95840" y="304020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91160" y="318780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6640" y="27208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45400" y="2433600"/>
              <a:ext cx="619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x_I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X_I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844800" y="2039400"/>
              <a:ext cx="180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65480" y="2182680"/>
              <a:ext cx="2175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W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RF_DAT, RF_CLK, RF_L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01880" y="890640"/>
              <a:ext cx="1449360" cy="1136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59640" y="1116000"/>
              <a:ext cx="891000" cy="8254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67240" y="14367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8480" y="1295280"/>
              <a:ext cx="64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6M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99240" y="1806480"/>
              <a:ext cx="6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6’M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83080" y="2762280"/>
              <a:ext cx="0" cy="3841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48480" y="2770200"/>
              <a:ext cx="6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26’M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24720" y="1146240"/>
              <a:ext cx="8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637000" y="4491000"/>
              <a:ext cx="137520" cy="313920"/>
              <a:chOff x="2637000" y="4491000"/>
              <a:chExt cx="137520" cy="313920"/>
            </a:xfrm>
          </p:grpSpPr>
          <p:sp>
            <p:nvSpPr>
              <p:cNvPr id="90" name=""/>
              <p:cNvSpPr/>
              <p:nvPr/>
            </p:nvSpPr>
            <p:spPr>
              <a:xfrm>
                <a:off x="2637000" y="4491000"/>
                <a:ext cx="132480" cy="127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642400" y="4613400"/>
                <a:ext cx="132120" cy="19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534040" y="477216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35240" y="28479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uz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21360" y="3087720"/>
              <a:ext cx="5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7448400" y="2927520"/>
              <a:ext cx="196560" cy="318960"/>
              <a:chOff x="7448400" y="2927520"/>
              <a:chExt cx="196560" cy="318960"/>
            </a:xfrm>
          </p:grpSpPr>
          <p:sp>
            <p:nvSpPr>
              <p:cNvPr id="96" name=""/>
              <p:cNvSpPr/>
              <p:nvPr/>
            </p:nvSpPr>
            <p:spPr>
              <a:xfrm>
                <a:off x="7448400" y="2991240"/>
                <a:ext cx="65520" cy="191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5400000">
                <a:off x="7419960" y="3021480"/>
                <a:ext cx="318960" cy="131040"/>
              </a:xfrm>
              <a:custGeom>
                <a:avLst/>
                <a:gdLst>
                  <a:gd name="textAreaLeft" fmla="*/ 70200 w 318960"/>
                  <a:gd name="textAreaRight" fmla="*/ 248760 w 318960"/>
                  <a:gd name="textAreaTop" fmla="*/ 28800 h 131040"/>
                  <a:gd name="textAreaBottom" fmla="*/ 102240 h 13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674240" y="1657440"/>
              <a:ext cx="575280" cy="307080"/>
              <a:chOff x="4674240" y="1657440"/>
              <a:chExt cx="575280" cy="307080"/>
            </a:xfrm>
          </p:grpSpPr>
          <p:sp>
            <p:nvSpPr>
              <p:cNvPr id="99" name=""/>
              <p:cNvSpPr/>
              <p:nvPr/>
            </p:nvSpPr>
            <p:spPr>
              <a:xfrm>
                <a:off x="4730040" y="1672920"/>
                <a:ext cx="461520" cy="2386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674240" y="1657440"/>
                <a:ext cx="575280" cy="3070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675680" y="1913040"/>
              <a:ext cx="575280" cy="307080"/>
              <a:chOff x="4675680" y="1913040"/>
              <a:chExt cx="575280" cy="307080"/>
            </a:xfrm>
          </p:grpSpPr>
          <p:sp>
            <p:nvSpPr>
              <p:cNvPr id="102" name=""/>
              <p:cNvSpPr/>
              <p:nvPr/>
            </p:nvSpPr>
            <p:spPr>
              <a:xfrm>
                <a:off x="4731480" y="1927080"/>
                <a:ext cx="461520" cy="2401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75680" y="1913040"/>
                <a:ext cx="575280" cy="3070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 flipH="1">
              <a:off x="5202000" y="178452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465520" y="1913040"/>
              <a:ext cx="168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65880" y="191772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217840" y="20397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51240" y="178452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581360" y="2039760"/>
              <a:ext cx="13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81360" y="191304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1240" y="191304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9480" y="782640"/>
              <a:ext cx="66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GSM_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73120" y="5654520"/>
              <a:ext cx="527040" cy="0"/>
            </a:xfrm>
            <a:prstGeom prst="line">
              <a:avLst/>
            </a:prstGeom>
            <a:ln w="158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8800" y="5407200"/>
              <a:ext cx="59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nRe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23760" y="326232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C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6155280" y="5197320"/>
              <a:ext cx="749160" cy="459000"/>
              <a:chOff x="6155280" y="5197320"/>
              <a:chExt cx="749160" cy="459000"/>
            </a:xfrm>
          </p:grpSpPr>
          <p:sp>
            <p:nvSpPr>
              <p:cNvPr id="117" name=""/>
              <p:cNvSpPr/>
              <p:nvPr/>
            </p:nvSpPr>
            <p:spPr>
              <a:xfrm>
                <a:off x="6166440" y="5202360"/>
                <a:ext cx="729000" cy="382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55280" y="5197320"/>
                <a:ext cx="749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imes New Roman"/>
                  </a:rPr>
                  <a:t>Batte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imes New Roman"/>
                  </a:rPr>
                  <a:t>Conn_3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5721120" y="4653000"/>
              <a:ext cx="93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cc"/>
                  </a:solidFill>
                  <a:latin typeface="Times New Roman"/>
                </a:rPr>
                <a:t>BATTE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0000" y="5826240"/>
              <a:ext cx="263520" cy="253800"/>
            </a:xfrm>
            <a:prstGeom prst="su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99120" y="579420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eypad L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34880" y="1609560"/>
              <a:ext cx="132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GSM_Rx (GSM85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35600" y="186372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CS_Rx (PC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72480" y="847800"/>
              <a:ext cx="68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GSM_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21000" y="118440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DCS_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24720" y="101916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678800" y="1019160"/>
              <a:ext cx="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480440" y="1145880"/>
              <a:ext cx="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90040" y="1123920"/>
              <a:ext cx="65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CS_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38360" y="4683240"/>
              <a:ext cx="38736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86880" y="4718160"/>
              <a:ext cx="54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ead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37040" y="429408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03600" y="429912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75400" y="3675240"/>
              <a:ext cx="549360" cy="452160"/>
              <a:chOff x="275400" y="3675240"/>
              <a:chExt cx="549360" cy="452160"/>
            </a:xfrm>
          </p:grpSpPr>
          <p:sp>
            <p:nvSpPr>
              <p:cNvPr id="135" name=""/>
              <p:cNvSpPr/>
              <p:nvPr/>
            </p:nvSpPr>
            <p:spPr>
              <a:xfrm>
                <a:off x="277920" y="3675240"/>
                <a:ext cx="527040" cy="452160"/>
              </a:xfrm>
              <a:prstGeom prst="rect">
                <a:avLst/>
              </a:prstGeom>
              <a:solidFill>
                <a:srgbClr val="ccccff"/>
              </a:solidFill>
              <a:ln w="316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5400" y="3795480"/>
                <a:ext cx="549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-824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6086520" y="641520"/>
              <a:ext cx="0" cy="2552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81880" y="6350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P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91400" y="29908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341360" y="3171960"/>
              <a:ext cx="527040" cy="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1458720" y="3857760"/>
              <a:ext cx="399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11240" y="4673520"/>
              <a:ext cx="490680" cy="344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52200" y="4740120"/>
              <a:ext cx="61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CP3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76400" y="3321000"/>
              <a:ext cx="54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o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801160" y="1719360"/>
              <a:ext cx="199800" cy="128880"/>
              <a:chOff x="2801160" y="1719360"/>
              <a:chExt cx="199800" cy="128880"/>
            </a:xfrm>
          </p:grpSpPr>
          <p:sp>
            <p:nvSpPr>
              <p:cNvPr id="146" name=""/>
              <p:cNvSpPr/>
              <p:nvPr/>
            </p:nvSpPr>
            <p:spPr>
              <a:xfrm rot="5352600">
                <a:off x="2870280" y="1717560"/>
                <a:ext cx="127080" cy="132120"/>
              </a:xfrm>
              <a:prstGeom prst="flowChartMerge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5352600">
                <a:off x="2802960" y="1751760"/>
                <a:ext cx="63360" cy="66240"/>
              </a:xfrm>
              <a:prstGeom prst="ellipse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801880" y="146520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72320" y="3379680"/>
              <a:ext cx="33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95960" y="30877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976560" y="2039400"/>
              <a:ext cx="180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225520" y="4554360"/>
              <a:ext cx="263520" cy="382680"/>
              <a:chOff x="2225520" y="4554360"/>
              <a:chExt cx="263520" cy="382680"/>
            </a:xfrm>
          </p:grpSpPr>
          <p:sp>
            <p:nvSpPr>
              <p:cNvPr id="153" name=""/>
              <p:cNvSpPr/>
              <p:nvPr/>
            </p:nvSpPr>
            <p:spPr>
              <a:xfrm>
                <a:off x="2291040" y="4554360"/>
                <a:ext cx="131760" cy="382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25520" y="4618080"/>
                <a:ext cx="263520" cy="255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357280" y="4273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701880" y="395892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1880" y="3959280"/>
              <a:ext cx="7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131920" y="1577880"/>
              <a:ext cx="0" cy="152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70840" y="198612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F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09960" y="516564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17200" y="538488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S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28000" y="57610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S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59480" y="487836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152680" y="487368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153040" y="4437000"/>
              <a:ext cx="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95520" y="5613480"/>
              <a:ext cx="148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00560" y="5767560"/>
              <a:ext cx="16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883040" y="4427640"/>
              <a:ext cx="0" cy="11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025960" y="4437000"/>
              <a:ext cx="0" cy="133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68440" y="146520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00240" y="1784520"/>
              <a:ext cx="6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065400" y="1464840"/>
              <a:ext cx="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328840" y="1784520"/>
              <a:ext cx="4730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11320" y="272088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328920" y="2039760"/>
              <a:ext cx="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00240" y="203976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406240" y="2422440"/>
              <a:ext cx="59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06600" y="2422440"/>
              <a:ext cx="0" cy="70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41800" y="5591160"/>
              <a:ext cx="5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6 p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22400" y="581976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2 p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25920" y="4348080"/>
              <a:ext cx="105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Times New Roman"/>
                </a:rPr>
                <a:t>Ear_Det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195960" y="30873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108320" y="2039400"/>
              <a:ext cx="0" cy="52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263680" y="955800"/>
              <a:ext cx="527040" cy="0"/>
            </a:xfrm>
            <a:prstGeom prst="line">
              <a:avLst/>
            </a:prstGeom>
            <a:ln w="158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41360" y="3422520"/>
              <a:ext cx="527040" cy="0"/>
            </a:xfrm>
            <a:prstGeom prst="line">
              <a:avLst/>
            </a:prstGeom>
            <a:ln w="158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280" y="838080"/>
              <a:ext cx="11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MP_S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58960" y="3214800"/>
              <a:ext cx="109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cc"/>
                  </a:solidFill>
                  <a:latin typeface="Times New Roman"/>
                </a:rPr>
                <a:t>TEMP_S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29360" y="1457280"/>
              <a:ext cx="330120" cy="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08440" y="1344600"/>
              <a:ext cx="72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E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141880" y="2757600"/>
              <a:ext cx="0" cy="38232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76920" y="2590920"/>
              <a:ext cx="72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02040" y="896760"/>
              <a:ext cx="471600" cy="190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7120" y="896760"/>
              <a:ext cx="649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Att_2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02040" y="1087560"/>
              <a:ext cx="471600" cy="19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67120" y="1087560"/>
              <a:ext cx="649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Att_2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54480" y="987480"/>
              <a:ext cx="54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70400" y="98424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267080" y="1176480"/>
              <a:ext cx="54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72200" y="117144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50040" y="641520"/>
              <a:ext cx="0" cy="2552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586480" y="2938320"/>
              <a:ext cx="0" cy="19224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580000" y="2746080"/>
              <a:ext cx="6480" cy="25092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75200" y="345744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97760" y="1023840"/>
              <a:ext cx="0" cy="3193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75440" y="1012680"/>
              <a:ext cx="92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GSM_TX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02320" y="2703600"/>
              <a:ext cx="92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SM_TX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470560" y="442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02480" y="5597640"/>
              <a:ext cx="460440" cy="190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51760" y="5565600"/>
              <a:ext cx="5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Times New Roman"/>
                </a:rPr>
                <a:t>GP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68480" y="4703760"/>
              <a:ext cx="527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cei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19480" y="254952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87720" y="261936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44800" y="2689200"/>
              <a:ext cx="7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0560" y="2689200"/>
              <a:ext cx="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02320" y="2619360"/>
              <a:ext cx="0" cy="5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34080" y="25560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07160" y="5900760"/>
              <a:ext cx="462240" cy="19044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58240" y="5867280"/>
              <a:ext cx="59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cc"/>
                  </a:solidFill>
                  <a:latin typeface="Times New Roman"/>
                </a:rPr>
                <a:t>A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16480" y="42894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92440" y="364500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64520" y="3470400"/>
              <a:ext cx="6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98920" y="3497400"/>
              <a:ext cx="80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98920" y="3359160"/>
              <a:ext cx="8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3600" y="3214800"/>
              <a:ext cx="8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014120" y="2257560"/>
              <a:ext cx="540360" cy="387720"/>
              <a:chOff x="1014120" y="2257560"/>
              <a:chExt cx="540360" cy="387720"/>
            </a:xfrm>
          </p:grpSpPr>
          <p:sp>
            <p:nvSpPr>
              <p:cNvPr id="226" name=""/>
              <p:cNvSpPr/>
              <p:nvPr/>
            </p:nvSpPr>
            <p:spPr>
              <a:xfrm>
                <a:off x="1015200" y="2257560"/>
                <a:ext cx="461160" cy="3834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014120" y="2307960"/>
                <a:ext cx="54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I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>
              <a:off x="1472760" y="243828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33560" y="2438280"/>
              <a:ext cx="0" cy="70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03600" y="3805200"/>
              <a:ext cx="80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9800" y="363708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M I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263600" y="4032000"/>
              <a:ext cx="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1008000" y="3664080"/>
              <a:ext cx="533160" cy="379080"/>
              <a:chOff x="1008000" y="3664080"/>
              <a:chExt cx="533160" cy="379080"/>
            </a:xfrm>
          </p:grpSpPr>
          <p:sp>
            <p:nvSpPr>
              <p:cNvPr id="234" name=""/>
              <p:cNvSpPr/>
              <p:nvPr/>
            </p:nvSpPr>
            <p:spPr>
              <a:xfrm>
                <a:off x="1008000" y="3788280"/>
                <a:ext cx="5331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3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L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3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atte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1077840" y="3664080"/>
                <a:ext cx="380880" cy="379080"/>
                <a:chOff x="1077840" y="3664080"/>
                <a:chExt cx="380880" cy="379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077840" y="3744720"/>
                  <a:ext cx="380880" cy="2984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41200" y="3664080"/>
                  <a:ext cx="76320" cy="7452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325520" y="3664080"/>
                  <a:ext cx="75960" cy="7452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 flipV="1">
              <a:off x="1258920" y="50176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73080" y="5197320"/>
              <a:ext cx="725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harger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833280" y="4282920"/>
              <a:ext cx="567000" cy="0"/>
            </a:xfrm>
            <a:prstGeom prst="line">
              <a:avLst/>
            </a:prstGeom>
            <a:ln w="158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11760" y="408132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SC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81720" y="5607000"/>
              <a:ext cx="263520" cy="255600"/>
            </a:xfrm>
            <a:prstGeom prst="su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84400" y="4896000"/>
              <a:ext cx="66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ib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71760" y="5124600"/>
              <a:ext cx="6660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00480" y="5133960"/>
              <a:ext cx="6660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27800" y="4946760"/>
              <a:ext cx="6480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21320" y="5010120"/>
              <a:ext cx="6660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05160" y="2271600"/>
              <a:ext cx="6516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92560" y="2325600"/>
              <a:ext cx="6516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70360" y="2239920"/>
              <a:ext cx="6480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62440" y="2293920"/>
              <a:ext cx="6660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40240" y="1878120"/>
              <a:ext cx="6516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83000" y="1887480"/>
              <a:ext cx="6660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24400" y="1757520"/>
              <a:ext cx="6660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83080" y="1749600"/>
              <a:ext cx="6516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04920" y="51609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767120" y="4431960"/>
              <a:ext cx="0" cy="7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73800" y="465444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32560" y="4657680"/>
              <a:ext cx="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86440" y="4017960"/>
              <a:ext cx="604800" cy="455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07320" y="4046400"/>
              <a:ext cx="5554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R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Mb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24720" y="3651120"/>
              <a:ext cx="0" cy="4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4720" y="4097160"/>
              <a:ext cx="26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92960" y="3841920"/>
              <a:ext cx="0" cy="38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92960" y="4226040"/>
              <a:ext cx="3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64400" y="4397400"/>
              <a:ext cx="101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66640" y="418140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C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5480" y="389556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840A-E22D-47A3-B4BF-489911ADE9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271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2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4" name=""/>
          <p:cNvSpPr/>
          <p:nvPr/>
        </p:nvSpPr>
        <p:spPr>
          <a:xfrm>
            <a:off x="2136600" y="15228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RF Tranceiver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85800" y="1828800"/>
            <a:ext cx="7772400" cy="4267080"/>
            <a:chOff x="685800" y="1828800"/>
            <a:chExt cx="7772400" cy="4267080"/>
          </a:xfrm>
        </p:grpSpPr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685800" y="1828800"/>
              <a:ext cx="777240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646040" y="4257720"/>
              <a:ext cx="0" cy="1050120"/>
            </a:xfrm>
            <a:prstGeom prst="line">
              <a:avLst/>
            </a:prstGeom>
            <a:ln w="38160">
              <a:solidFill>
                <a:srgbClr val="00008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860120" y="5307840"/>
              <a:ext cx="578556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05880" y="2692800"/>
              <a:ext cx="5386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59920" y="3141720"/>
              <a:ext cx="3191760" cy="1509480"/>
            </a:xfrm>
            <a:prstGeom prst="ellipse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23520" y="3602520"/>
              <a:ext cx="86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Arial Black"/>
                  <a:ea typeface="Arial Unicode MS"/>
                </a:rPr>
                <a:t>P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57680" y="2024280"/>
              <a:ext cx="30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Transmit P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57680" y="5572080"/>
              <a:ext cx="30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Receiver P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10560" y="838080"/>
            <a:ext cx="48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he TRF6151 is a quad-band transceiver 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GPRS class 12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235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an use crystal or VTC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235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92D4D-C75A-4162-A5D1-E217566A8C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286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7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990720" y="1828800"/>
            <a:ext cx="7010280" cy="4145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62120" y="83808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 divider by 4 for the LO generation in GSM900 and GSM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 divider by 2 for the LO generation in DCS1800 and PCS19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41880" y="15228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iver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37AB-F0DB-49A9-8EDC-EF115851F9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293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4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6" name=""/>
          <p:cNvSpPr/>
          <p:nvPr/>
        </p:nvSpPr>
        <p:spPr>
          <a:xfrm>
            <a:off x="2440080" y="15228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mit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83808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 divider by 4 for the LO generation in GSM900 and GSM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 divider by 2 for the LO generation in DCS1800 and PCS19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304920" y="2286000"/>
            <a:ext cx="8677080" cy="31734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352680" y="2743200"/>
            <a:ext cx="3124440" cy="1523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1FC2-5967-4B0D-9043-FE31FB81EF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302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3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5" name=""/>
          <p:cNvSpPr/>
          <p:nvPr/>
        </p:nvSpPr>
        <p:spPr>
          <a:xfrm>
            <a:off x="2896920" y="15228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F Crysta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6934320" cy="4259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838080" y="76212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RF6151 VCXO uses the Clapp colpitts oscillator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Negative resistance and temperature character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6940-EC1E-4268-A2CB-A56A88F29B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2:28:55Z</dcterms:created>
  <dc:creator>teddy_chou</dc:creator>
  <dc:description/>
  <dc:language>en-US</dc:language>
  <cp:lastModifiedBy>eleven</cp:lastModifiedBy>
  <dcterms:modified xsi:type="dcterms:W3CDTF">2004-04-09T04:03:58Z</dcterms:modified>
  <cp:revision>32</cp:revision>
  <dc:subject/>
  <dc:title>PowerPoint 簡報</dc:title>
</cp:coreProperties>
</file>