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2B252-16B6-4689-8A11-FF161AA9ED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46140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F828B-23A4-446B-A914-C3787769B7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9140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4614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4614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E4019-1992-4266-8822-A58FC0FBDB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9140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9140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4614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4614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4614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0DA67-DF7E-4A38-9E87-CEB5B0B003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9140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30EA3-1842-4D53-8B10-B65E170C02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F95DE-A8CE-4482-8115-6B059C3EF4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9140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FD1D1-0DB6-4277-A52C-F0696D1608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5F110-EB5D-448D-BDF9-4FD5F890CE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DD03D-1142-4828-BC68-44A2DB7573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9140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4614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D0003-2591-41AE-B995-B7631711F5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9140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4614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09D82-0FDD-4F3B-9C04-F8C31889EE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9140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46140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DC667-9369-4D09-BC0D-56D5D704A1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itle1_365a" descr=""/>
          <p:cNvPicPr/>
          <p:nvPr/>
        </p:nvPicPr>
        <p:blipFill>
          <a:blip r:embed="rId2"/>
          <a:stretch/>
        </p:blipFill>
        <p:spPr>
          <a:xfrm>
            <a:off x="0" y="6315120"/>
            <a:ext cx="9144000" cy="542880"/>
          </a:xfrm>
          <a:prstGeom prst="rect">
            <a:avLst/>
          </a:prstGeom>
          <a:ln w="0">
            <a:noFill/>
          </a:ln>
        </p:spPr>
      </p:pic>
      <p:pic>
        <p:nvPicPr>
          <p:cNvPr id="1" name="title1_365a" descr=""/>
          <p:cNvPicPr/>
          <p:nvPr/>
        </p:nvPicPr>
        <p:blipFill>
          <a:blip r:embed="rId3"/>
          <a:stretch/>
        </p:blipFill>
        <p:spPr>
          <a:xfrm>
            <a:off x="533520" y="0"/>
            <a:ext cx="8610480" cy="54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09480" y="9140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"/>
          <p:cNvSpPr/>
          <p:nvPr/>
        </p:nvSpPr>
        <p:spPr>
          <a:xfrm>
            <a:off x="6711840" y="152280"/>
            <a:ext cx="238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ccff"/>
                </a:solidFill>
                <a:latin typeface="Arial"/>
              </a:rPr>
              <a:t>Company Confident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compal_logo" descr=""/>
          <p:cNvPicPr/>
          <p:nvPr/>
        </p:nvPicPr>
        <p:blipFill>
          <a:blip r:embed="rId4"/>
          <a:stretch/>
        </p:blipFill>
        <p:spPr>
          <a:xfrm>
            <a:off x="0" y="0"/>
            <a:ext cx="762120" cy="542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27432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B570-977F-4BAB-87D0-CA2718BCB199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title1_365a" descr=""/>
          <p:cNvPicPr/>
          <p:nvPr/>
        </p:nvPicPr>
        <p:blipFill>
          <a:blip r:embed="rId5"/>
          <a:stretch/>
        </p:blipFill>
        <p:spPr>
          <a:xfrm>
            <a:off x="533520" y="0"/>
            <a:ext cx="8610480" cy="542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711840" y="152280"/>
            <a:ext cx="238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ccff"/>
                </a:solidFill>
                <a:latin typeface="Arial"/>
              </a:rPr>
              <a:t>Company Confident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compal_logo" descr=""/>
          <p:cNvPicPr/>
          <p:nvPr/>
        </p:nvPicPr>
        <p:blipFill>
          <a:blip r:embed="rId6"/>
          <a:stretch/>
        </p:blipFill>
        <p:spPr>
          <a:xfrm>
            <a:off x="0" y="0"/>
            <a:ext cx="762120" cy="54288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09480" y="685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115 L3 Training Slid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4436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115 L3 training slid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480060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015FB-06A7-472F-812C-C31FAD9249E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343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duct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ical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GSM 900/1800 or 850/19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Size = 72 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Weight &lt; 80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Display Pixel area 96x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Battery 860mAH Li-ion remo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Antenna : Inter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733920" cy="3504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38080" y="0"/>
            <a:ext cx="3962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roduct Overvie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812F0-D4D8-4B88-9B40-4859AC94DE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0"/>
            <a:ext cx="2133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0000"/>
                </a:solidFill>
                <a:latin typeface="Verdana"/>
              </a:rPr>
              <a:t>Chip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762120"/>
            <a:ext cx="800748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U15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“RIT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(Transceiver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IC, TX/RX V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U13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“SKY77324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(PA + Match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U1 “IOT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(I/Q signals, power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management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, acoustic, SIM,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RF control 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U7 ” CalpysoLite_G2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(DSP 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U5 ”NCP345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(Over Voltage Protection 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U104”S-8241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(Charge 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U24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SRAM 2Mbit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U100 Flash 16Mbit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E1F7F-E8CF-4ED5-9830-1CCBF7727D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09480" y="0"/>
            <a:ext cx="5486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unction Block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78320" y="3138480"/>
            <a:ext cx="1438200" cy="1281240"/>
          </a:xfrm>
          <a:prstGeom prst="rect">
            <a:avLst/>
          </a:prstGeom>
          <a:solidFill>
            <a:srgbClr val="cc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6400" y="3505320"/>
            <a:ext cx="988920" cy="1068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CPU(G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Calypos L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30240" y="3116160"/>
            <a:ext cx="1702080" cy="1165320"/>
          </a:xfrm>
          <a:prstGeom prst="rect">
            <a:avLst/>
          </a:prstGeom>
          <a:solidFill>
            <a:srgbClr val="cccc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4120" y="3483000"/>
            <a:ext cx="72648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O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21320" y="888840"/>
            <a:ext cx="1054080" cy="63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05840" y="88884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X773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02440" y="1330200"/>
            <a:ext cx="1515960" cy="63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85800" y="139392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/R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MSP43AA-1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62000" y="5413320"/>
            <a:ext cx="1384560" cy="765360"/>
          </a:xfrm>
          <a:prstGeom prst="rect">
            <a:avLst/>
          </a:prstGeom>
          <a:solidFill>
            <a:srgbClr val="ffff00"/>
          </a:solidFill>
          <a:ln w="3168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04480" y="5541840"/>
            <a:ext cx="121716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no B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32440" y="3260880"/>
            <a:ext cx="598680" cy="637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83560" y="3349800"/>
            <a:ext cx="515880" cy="459000"/>
          </a:xfrm>
          <a:prstGeom prst="rect">
            <a:avLst/>
          </a:prstGeom>
          <a:solidFill>
            <a:srgbClr val="ccccff"/>
          </a:solidFill>
          <a:ln w="255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T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la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Mb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97120" y="1276200"/>
            <a:ext cx="509400" cy="2826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52480" y="128736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y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850000" y="3643200"/>
            <a:ext cx="988920" cy="5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840280" y="3827160"/>
            <a:ext cx="989280" cy="46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9360" y="3463920"/>
            <a:ext cx="61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[1..22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78080" y="3649680"/>
            <a:ext cx="69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B[0..15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81760" y="5189400"/>
            <a:ext cx="855360" cy="384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70320" y="5227560"/>
            <a:ext cx="8132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eyp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46520" y="3032280"/>
            <a:ext cx="45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42200" y="317988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57680" y="2712960"/>
            <a:ext cx="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96080" y="2425680"/>
            <a:ext cx="619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x_I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X_I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95840" y="2031480"/>
            <a:ext cx="1440" cy="65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16520" y="2174760"/>
            <a:ext cx="217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W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RF_DAT, RF_CLK, RF_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52560" y="882720"/>
            <a:ext cx="1449720" cy="1136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10320" y="1108080"/>
            <a:ext cx="89100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17920" y="14288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83040" y="12826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49920" y="179856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’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33760" y="2754360"/>
            <a:ext cx="0" cy="3841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99520" y="276228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26’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75400" y="1138320"/>
            <a:ext cx="85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587680" y="4483080"/>
            <a:ext cx="137520" cy="313920"/>
            <a:chOff x="2587680" y="4483080"/>
            <a:chExt cx="137520" cy="313920"/>
          </a:xfrm>
        </p:grpSpPr>
        <p:sp>
          <p:nvSpPr>
            <p:cNvPr id="91" name=""/>
            <p:cNvSpPr/>
            <p:nvPr/>
          </p:nvSpPr>
          <p:spPr>
            <a:xfrm>
              <a:off x="2587680" y="4483080"/>
              <a:ext cx="132480" cy="127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93080" y="4605480"/>
              <a:ext cx="132120" cy="19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2484720" y="4764240"/>
            <a:ext cx="42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85920" y="284004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z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72400" y="3079800"/>
            <a:ext cx="52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7399440" y="2919240"/>
            <a:ext cx="196560" cy="319320"/>
            <a:chOff x="7399440" y="2919240"/>
            <a:chExt cx="196560" cy="319320"/>
          </a:xfrm>
        </p:grpSpPr>
        <p:sp>
          <p:nvSpPr>
            <p:cNvPr id="97" name=""/>
            <p:cNvSpPr/>
            <p:nvPr/>
          </p:nvSpPr>
          <p:spPr>
            <a:xfrm>
              <a:off x="7399440" y="2982960"/>
              <a:ext cx="65520" cy="19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5400000">
              <a:off x="7370640" y="3013200"/>
              <a:ext cx="319320" cy="131040"/>
            </a:xfrm>
            <a:custGeom>
              <a:avLst/>
              <a:gdLst>
                <a:gd name="textAreaLeft" fmla="*/ 70200 w 319320"/>
                <a:gd name="textAreaRight" fmla="*/ 249120 w 319320"/>
                <a:gd name="textAreaTop" fmla="*/ 28800 h 131040"/>
                <a:gd name="textAreaBottom" fmla="*/ 102240 h 13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624920" y="1649520"/>
            <a:ext cx="575280" cy="307080"/>
            <a:chOff x="4624920" y="1649520"/>
            <a:chExt cx="575280" cy="307080"/>
          </a:xfrm>
        </p:grpSpPr>
        <p:sp>
          <p:nvSpPr>
            <p:cNvPr id="100" name=""/>
            <p:cNvSpPr/>
            <p:nvPr/>
          </p:nvSpPr>
          <p:spPr>
            <a:xfrm>
              <a:off x="4680720" y="1665000"/>
              <a:ext cx="461520" cy="2386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24920" y="1649520"/>
              <a:ext cx="575280" cy="307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26360" y="1905120"/>
            <a:ext cx="575280" cy="307080"/>
            <a:chOff x="4626360" y="1905120"/>
            <a:chExt cx="575280" cy="307080"/>
          </a:xfrm>
        </p:grpSpPr>
        <p:sp>
          <p:nvSpPr>
            <p:cNvPr id="103" name=""/>
            <p:cNvSpPr/>
            <p:nvPr/>
          </p:nvSpPr>
          <p:spPr>
            <a:xfrm>
              <a:off x="4682160" y="1919160"/>
              <a:ext cx="461520" cy="240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26360" y="1905120"/>
              <a:ext cx="575280" cy="307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5152680" y="1776240"/>
            <a:ext cx="194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416200" y="1905120"/>
            <a:ext cx="168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6560" y="1909800"/>
            <a:ext cx="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168520" y="203184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02280" y="1776240"/>
            <a:ext cx="461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532400" y="2031840"/>
            <a:ext cx="13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32400" y="1905120"/>
            <a:ext cx="0" cy="12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02280" y="190512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60520" y="774720"/>
            <a:ext cx="66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GSM_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24160" y="5646600"/>
            <a:ext cx="527040" cy="0"/>
          </a:xfrm>
          <a:prstGeom prst="line">
            <a:avLst/>
          </a:prstGeom>
          <a:ln w="1584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29480" y="5398920"/>
            <a:ext cx="59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nRe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74440" y="325440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S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106320" y="5189400"/>
            <a:ext cx="749160" cy="459000"/>
            <a:chOff x="6106320" y="5189400"/>
            <a:chExt cx="749160" cy="459000"/>
          </a:xfrm>
        </p:grpSpPr>
        <p:sp>
          <p:nvSpPr>
            <p:cNvPr id="118" name=""/>
            <p:cNvSpPr/>
            <p:nvPr/>
          </p:nvSpPr>
          <p:spPr>
            <a:xfrm>
              <a:off x="6117480" y="5194440"/>
              <a:ext cx="729000" cy="382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06320" y="5189400"/>
              <a:ext cx="749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</a:rPr>
                <a:t>Batte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</a:rPr>
                <a:t>Conn_3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5672160" y="464508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cc"/>
                </a:solidFill>
                <a:latin typeface="Times New Roman"/>
              </a:rPr>
              <a:t>BATTE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90680" y="5818320"/>
            <a:ext cx="263520" cy="253800"/>
          </a:xfrm>
          <a:prstGeom prst="su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32120" y="6040440"/>
            <a:ext cx="114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light_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49800" y="578628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pa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85560" y="1601640"/>
            <a:ext cx="132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GSM_Rx (GSM85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86640" y="1855800"/>
            <a:ext cx="97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CS_Rx (P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923160" y="839880"/>
            <a:ext cx="68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SM_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71680" y="117648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DCS_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75400" y="1011240"/>
            <a:ext cx="105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7629480" y="1011240"/>
            <a:ext cx="0" cy="318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431120" y="1137960"/>
            <a:ext cx="0" cy="191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40720" y="111600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CS_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89400" y="4675320"/>
            <a:ext cx="387360" cy="24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37560" y="4710240"/>
            <a:ext cx="54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Heads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87720" y="428616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54280" y="4290840"/>
            <a:ext cx="0" cy="19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6080" y="3666960"/>
            <a:ext cx="549360" cy="452520"/>
            <a:chOff x="226080" y="3666960"/>
            <a:chExt cx="549360" cy="452520"/>
          </a:xfrm>
        </p:grpSpPr>
        <p:sp>
          <p:nvSpPr>
            <p:cNvPr id="137" name=""/>
            <p:cNvSpPr/>
            <p:nvPr/>
          </p:nvSpPr>
          <p:spPr>
            <a:xfrm>
              <a:off x="228600" y="3666960"/>
              <a:ext cx="527040" cy="452520"/>
            </a:xfrm>
            <a:prstGeom prst="rect">
              <a:avLst/>
            </a:prstGeom>
            <a:solidFill>
              <a:srgbClr val="ccccff"/>
            </a:solidFill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6080" y="3787560"/>
              <a:ext cx="549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-824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6037200" y="633240"/>
            <a:ext cx="0" cy="255600"/>
          </a:xfrm>
          <a:prstGeom prst="line">
            <a:avLst/>
          </a:prstGeom>
          <a:ln w="158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32560" y="62712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42080" y="298296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292400" y="3164040"/>
            <a:ext cx="527040" cy="0"/>
          </a:xfrm>
          <a:prstGeom prst="line">
            <a:avLst/>
          </a:prstGeom>
          <a:ln w="158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1409400" y="3849840"/>
            <a:ext cx="39996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1920" y="4665600"/>
            <a:ext cx="490680" cy="344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2880" y="4732200"/>
            <a:ext cx="61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CP3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27080" y="33130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752560" y="1711440"/>
            <a:ext cx="199800" cy="128880"/>
            <a:chOff x="2752560" y="1711440"/>
            <a:chExt cx="199800" cy="128880"/>
          </a:xfrm>
        </p:grpSpPr>
        <p:sp>
          <p:nvSpPr>
            <p:cNvPr id="148" name=""/>
            <p:cNvSpPr/>
            <p:nvPr/>
          </p:nvSpPr>
          <p:spPr>
            <a:xfrm rot="5352600">
              <a:off x="2821680" y="1709640"/>
              <a:ext cx="127080" cy="132120"/>
            </a:xfrm>
            <a:prstGeom prst="flowChartMerg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352600">
              <a:off x="2754360" y="1743840"/>
              <a:ext cx="63360" cy="6624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2752560" y="1457280"/>
            <a:ext cx="26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23000" y="3371760"/>
            <a:ext cx="33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46640" y="3079800"/>
            <a:ext cx="7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927600" y="2031480"/>
            <a:ext cx="1440" cy="58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176560" y="4546440"/>
            <a:ext cx="263520" cy="382680"/>
            <a:chOff x="2176560" y="4546440"/>
            <a:chExt cx="263520" cy="382680"/>
          </a:xfrm>
        </p:grpSpPr>
        <p:sp>
          <p:nvSpPr>
            <p:cNvPr id="155" name=""/>
            <p:cNvSpPr/>
            <p:nvPr/>
          </p:nvSpPr>
          <p:spPr>
            <a:xfrm>
              <a:off x="2242080" y="4546440"/>
              <a:ext cx="131760" cy="382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76560" y="4610160"/>
              <a:ext cx="263520" cy="255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2308320" y="426564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652920" y="3951000"/>
            <a:ext cx="0" cy="72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2920" y="3951360"/>
            <a:ext cx="71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082960" y="1569960"/>
            <a:ext cx="0" cy="15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21520" y="197820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60640" y="515772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67880" y="5376960"/>
            <a:ext cx="59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C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79040" y="575316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10160" y="487044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103360" y="4865760"/>
            <a:ext cx="40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103720" y="4429080"/>
            <a:ext cx="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46560" y="5605560"/>
            <a:ext cx="1487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51240" y="5759280"/>
            <a:ext cx="1631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834080" y="4419720"/>
            <a:ext cx="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976640" y="4428720"/>
            <a:ext cx="0" cy="13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19480" y="145728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51280" y="1776240"/>
            <a:ext cx="6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016080" y="1457280"/>
            <a:ext cx="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279520" y="1776240"/>
            <a:ext cx="473040" cy="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62360" y="2712960"/>
            <a:ext cx="42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279600" y="2031840"/>
            <a:ext cx="0" cy="68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51280" y="2031840"/>
            <a:ext cx="0" cy="38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357280" y="2414520"/>
            <a:ext cx="59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57280" y="2414520"/>
            <a:ext cx="0" cy="70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92840" y="5583240"/>
            <a:ext cx="52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6 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73080" y="5811840"/>
            <a:ext cx="52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2 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76600" y="434016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Times New Roman"/>
              </a:rPr>
              <a:t>Ear_Det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146640" y="3079440"/>
            <a:ext cx="0" cy="29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059360" y="2031480"/>
            <a:ext cx="0" cy="52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214720" y="947880"/>
            <a:ext cx="527040" cy="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2400" y="3414600"/>
            <a:ext cx="527040" cy="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27040" y="824040"/>
            <a:ext cx="11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_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9640" y="3206880"/>
            <a:ext cx="109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cc"/>
                </a:solidFill>
                <a:latin typeface="Times New Roman"/>
              </a:rPr>
              <a:t>TEMP_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80040" y="1449360"/>
            <a:ext cx="330120" cy="0"/>
          </a:xfrm>
          <a:prstGeom prst="line">
            <a:avLst/>
          </a:prstGeom>
          <a:ln w="158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59480" y="1336680"/>
            <a:ext cx="72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E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092560" y="2749680"/>
            <a:ext cx="0" cy="382320"/>
          </a:xfrm>
          <a:prstGeom prst="line">
            <a:avLst/>
          </a:prstGeom>
          <a:ln w="158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27600" y="2583000"/>
            <a:ext cx="7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53080" y="888840"/>
            <a:ext cx="471240" cy="190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18160" y="888840"/>
            <a:ext cx="64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Att_2d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53080" y="1079640"/>
            <a:ext cx="471240" cy="191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18160" y="1079640"/>
            <a:ext cx="64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Att_2d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05160" y="979560"/>
            <a:ext cx="54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21440" y="976320"/>
            <a:ext cx="274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218120" y="1168560"/>
            <a:ext cx="546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22880" y="116352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00720" y="633240"/>
            <a:ext cx="0" cy="255600"/>
          </a:xfrm>
          <a:prstGeom prst="line">
            <a:avLst/>
          </a:prstGeom>
          <a:ln w="158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51400" y="617400"/>
            <a:ext cx="92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SM_TX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537160" y="2930400"/>
            <a:ext cx="0" cy="192240"/>
          </a:xfrm>
          <a:prstGeom prst="line">
            <a:avLst/>
          </a:prstGeom>
          <a:ln w="158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530680" y="2738160"/>
            <a:ext cx="6480" cy="250920"/>
          </a:xfrm>
          <a:prstGeom prst="line">
            <a:avLst/>
          </a:prstGeom>
          <a:ln w="158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26240" y="3449520"/>
            <a:ext cx="100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48440" y="1015920"/>
            <a:ext cx="0" cy="319320"/>
          </a:xfrm>
          <a:prstGeom prst="line">
            <a:avLst/>
          </a:prstGeom>
          <a:ln w="158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926480" y="1004760"/>
            <a:ext cx="92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SM_TX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53000" y="2695680"/>
            <a:ext cx="92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SM_TX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42124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553160" y="5589720"/>
            <a:ext cx="460440" cy="190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02440" y="5557680"/>
            <a:ext cx="59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GP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19520" y="4695840"/>
            <a:ext cx="527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70520" y="2541600"/>
            <a:ext cx="72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38760" y="2611440"/>
            <a:ext cx="72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95840" y="2681280"/>
            <a:ext cx="72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21240" y="2681280"/>
            <a:ext cx="0" cy="44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53000" y="2611440"/>
            <a:ext cx="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84760" y="254808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558200" y="5892840"/>
            <a:ext cx="461880" cy="19044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008920" y="5859360"/>
            <a:ext cx="59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cc"/>
                </a:solidFill>
                <a:latin typeface="Times New Roman"/>
              </a:rPr>
              <a:t>A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67160" y="4281480"/>
            <a:ext cx="0" cy="387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43480" y="3637080"/>
            <a:ext cx="81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15200" y="3462480"/>
            <a:ext cx="61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K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49600" y="3489480"/>
            <a:ext cx="806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49600" y="3351240"/>
            <a:ext cx="801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54280" y="3206880"/>
            <a:ext cx="801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964800" y="2249640"/>
            <a:ext cx="540360" cy="387720"/>
            <a:chOff x="964800" y="2249640"/>
            <a:chExt cx="540360" cy="387720"/>
          </a:xfrm>
        </p:grpSpPr>
        <p:sp>
          <p:nvSpPr>
            <p:cNvPr id="229" name=""/>
            <p:cNvSpPr/>
            <p:nvPr/>
          </p:nvSpPr>
          <p:spPr>
            <a:xfrm>
              <a:off x="965880" y="2249640"/>
              <a:ext cx="461160" cy="38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964800" y="2300040"/>
              <a:ext cx="54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 flipH="1">
            <a:off x="1424160" y="2430360"/>
            <a:ext cx="460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884240" y="2430360"/>
            <a:ext cx="0" cy="70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54280" y="3797280"/>
            <a:ext cx="808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60480" y="3629160"/>
            <a:ext cx="69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1214280" y="4024080"/>
            <a:ext cx="0" cy="64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958680" y="3656160"/>
            <a:ext cx="533160" cy="379080"/>
            <a:chOff x="958680" y="3656160"/>
            <a:chExt cx="533160" cy="379080"/>
          </a:xfrm>
        </p:grpSpPr>
        <p:sp>
          <p:nvSpPr>
            <p:cNvPr id="237" name=""/>
            <p:cNvSpPr/>
            <p:nvPr/>
          </p:nvSpPr>
          <p:spPr>
            <a:xfrm>
              <a:off x="958680" y="3780360"/>
              <a:ext cx="53316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3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3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Batt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1028520" y="3656160"/>
              <a:ext cx="380880" cy="379080"/>
              <a:chOff x="1028520" y="3656160"/>
              <a:chExt cx="380880" cy="379080"/>
            </a:xfrm>
          </p:grpSpPr>
          <p:sp>
            <p:nvSpPr>
              <p:cNvPr id="239" name=""/>
              <p:cNvSpPr/>
              <p:nvPr/>
            </p:nvSpPr>
            <p:spPr>
              <a:xfrm>
                <a:off x="1028520" y="3736800"/>
                <a:ext cx="380880" cy="2984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091880" y="3656160"/>
                <a:ext cx="76320" cy="745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276200" y="3656160"/>
                <a:ext cx="75960" cy="745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2" name=""/>
          <p:cNvSpPr/>
          <p:nvPr/>
        </p:nvSpPr>
        <p:spPr>
          <a:xfrm flipV="1">
            <a:off x="1209600" y="5009760"/>
            <a:ext cx="0" cy="24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23760" y="5189400"/>
            <a:ext cx="725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rger 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3784680" y="4275000"/>
            <a:ext cx="566640" cy="0"/>
          </a:xfrm>
          <a:prstGeom prst="line">
            <a:avLst/>
          </a:prstGeom>
          <a:ln w="1584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62440" y="407340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SCS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32400" y="5599080"/>
            <a:ext cx="263520" cy="255600"/>
          </a:xfrm>
          <a:prstGeom prst="su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35080" y="4888080"/>
            <a:ext cx="66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ib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22440" y="5116680"/>
            <a:ext cx="6660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351160" y="5126040"/>
            <a:ext cx="6660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78480" y="4938840"/>
            <a:ext cx="6516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72000" y="5002200"/>
            <a:ext cx="6696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55840" y="2263680"/>
            <a:ext cx="6516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43240" y="2317680"/>
            <a:ext cx="6516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21040" y="2232000"/>
            <a:ext cx="6516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13120" y="2286000"/>
            <a:ext cx="6660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390920" y="1870200"/>
            <a:ext cx="6516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334040" y="1879560"/>
            <a:ext cx="6660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75080" y="1749600"/>
            <a:ext cx="6660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33760" y="1741320"/>
            <a:ext cx="6516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55960" y="5153040"/>
            <a:ext cx="266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718160" y="4424040"/>
            <a:ext cx="0" cy="73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24480" y="4646520"/>
            <a:ext cx="105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483240" y="4649760"/>
            <a:ext cx="0" cy="5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37480" y="4010040"/>
            <a:ext cx="604800" cy="455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0" y="4038480"/>
            <a:ext cx="5554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RA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Mb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575400" y="3643200"/>
            <a:ext cx="0" cy="446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75400" y="4089240"/>
            <a:ext cx="26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43640" y="3833640"/>
            <a:ext cx="0" cy="38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43640" y="4218120"/>
            <a:ext cx="3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15080" y="4389480"/>
            <a:ext cx="101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17320" y="417348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76160" y="3887640"/>
            <a:ext cx="262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FCE00-C96E-4D13-8F91-23A7406A17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60948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CB Bottom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E88_bot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686800" cy="37717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819520" y="1371600"/>
            <a:ext cx="0" cy="16765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590920" y="10666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8381880" y="4191120"/>
            <a:ext cx="0" cy="12189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001000" y="5867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20120" y="1295280"/>
            <a:ext cx="0" cy="15242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553080" y="1295280"/>
            <a:ext cx="0" cy="15242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29200" y="1219320"/>
            <a:ext cx="0" cy="15238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5068800" y="4203720"/>
            <a:ext cx="0" cy="12952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6553080" y="4038480"/>
            <a:ext cx="0" cy="14479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7620120" y="4038480"/>
            <a:ext cx="0" cy="14479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8080" y="1371600"/>
            <a:ext cx="0" cy="205740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10666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00600" y="762120"/>
            <a:ext cx="60948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24480" y="838080"/>
            <a:ext cx="60984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467480" y="838080"/>
            <a:ext cx="60984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76920" y="5486400"/>
            <a:ext cx="60948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00800" y="5486400"/>
            <a:ext cx="60948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67480" y="5486400"/>
            <a:ext cx="60984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5A154-8F66-42BE-8E3C-65995F9877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685800" y="152280"/>
            <a:ext cx="3581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CB Top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e88_top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39034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76520" y="1447920"/>
            <a:ext cx="0" cy="68580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1066680"/>
            <a:ext cx="12193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MHz Crys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438280" y="1219320"/>
            <a:ext cx="0" cy="15238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685800"/>
            <a:ext cx="121932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U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Tranceiver 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267080" y="1219320"/>
            <a:ext cx="0" cy="137160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57600" y="685800"/>
            <a:ext cx="182880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 management  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77120" y="1219320"/>
            <a:ext cx="0" cy="12952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19920" y="685800"/>
            <a:ext cx="12189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 conn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96080" y="1295280"/>
            <a:ext cx="0" cy="7621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315200" y="838080"/>
            <a:ext cx="144792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dio j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8229240" y="1447920"/>
            <a:ext cx="304920" cy="16761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285040" y="1371600"/>
            <a:ext cx="8589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Z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z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8534520" y="3962160"/>
            <a:ext cx="0" cy="14475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458200" y="5791320"/>
            <a:ext cx="99072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C j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7620120" y="4952520"/>
            <a:ext cx="0" cy="68580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7620120" y="4952520"/>
            <a:ext cx="228600" cy="68580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467480" y="5638680"/>
            <a:ext cx="990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Vibra mo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conn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858000" y="4495320"/>
            <a:ext cx="304920" cy="12193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05720" y="5715000"/>
            <a:ext cx="10666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19920" y="5791320"/>
            <a:ext cx="106668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sh 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257800" y="5638680"/>
            <a:ext cx="106668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RAM 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6172200" y="4343400"/>
            <a:ext cx="0" cy="14479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5410080" y="4419720"/>
            <a:ext cx="0" cy="12189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914640" y="4290480"/>
            <a:ext cx="0" cy="16765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733920" y="5943600"/>
            <a:ext cx="14475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U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Calpysolite_G2 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2514600" y="4647960"/>
            <a:ext cx="838080" cy="10666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5715000"/>
            <a:ext cx="68580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 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1752120" y="4495320"/>
            <a:ext cx="762120" cy="12956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62320" y="5791320"/>
            <a:ext cx="106668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/R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66680" y="5791320"/>
            <a:ext cx="144792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P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nna Conne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1066320" y="4876920"/>
            <a:ext cx="228600" cy="8380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5410080"/>
            <a:ext cx="144792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P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Anten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228600" y="4343400"/>
            <a:ext cx="304920" cy="9907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1219320"/>
            <a:ext cx="1295640" cy="22096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1219320"/>
            <a:ext cx="1295640" cy="24382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8600" y="838080"/>
            <a:ext cx="13716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2/F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W 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330440" y="4905360"/>
            <a:ext cx="88920" cy="5810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267080" y="5486400"/>
            <a:ext cx="10670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.768k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678F7-27A1-4BCA-8DC8-CAC845718A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762120" y="0"/>
            <a:ext cx="36576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0000"/>
                </a:solidFill>
                <a:latin typeface="Verdana"/>
              </a:rPr>
              <a:t>Power T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84680" y="787320"/>
            <a:ext cx="88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14800" y="812880"/>
            <a:ext cx="749160" cy="4446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62520" y="838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B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2374560" y="1039680"/>
            <a:ext cx="1741320" cy="12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4861080" y="1041480"/>
            <a:ext cx="35575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575480" y="1052640"/>
            <a:ext cx="0" cy="5270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21640" y="1044720"/>
            <a:ext cx="0" cy="5270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14880" y="1054080"/>
            <a:ext cx="0" cy="498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21160" y="1044720"/>
            <a:ext cx="0" cy="498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758960" y="1562040"/>
            <a:ext cx="1222200" cy="459720"/>
            <a:chOff x="1758960" y="1562040"/>
            <a:chExt cx="1222200" cy="459720"/>
          </a:xfrm>
        </p:grpSpPr>
        <p:sp>
          <p:nvSpPr>
            <p:cNvPr id="344" name=""/>
            <p:cNvSpPr/>
            <p:nvPr/>
          </p:nvSpPr>
          <p:spPr>
            <a:xfrm>
              <a:off x="1860120" y="1577880"/>
              <a:ext cx="974520" cy="39996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758960" y="1562040"/>
              <a:ext cx="122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IO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374920" y="1052640"/>
            <a:ext cx="0" cy="498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354400" y="1989000"/>
            <a:ext cx="0" cy="498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 flipV="1">
            <a:off x="637920" y="2476080"/>
            <a:ext cx="3392280" cy="12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52320" y="2476440"/>
            <a:ext cx="0" cy="498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77800" y="2502000"/>
            <a:ext cx="0" cy="498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367000" y="2502000"/>
            <a:ext cx="0" cy="498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30640" y="2502000"/>
            <a:ext cx="0" cy="498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043520" y="2476440"/>
            <a:ext cx="0" cy="498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860560" y="2981160"/>
            <a:ext cx="731880" cy="69408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673440" y="2981160"/>
            <a:ext cx="731880" cy="69408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96920" y="2981160"/>
            <a:ext cx="731880" cy="69408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120680" y="2994120"/>
            <a:ext cx="731880" cy="693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2600" y="2994120"/>
            <a:ext cx="731880" cy="693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692520" y="3075120"/>
            <a:ext cx="682560" cy="5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VRDB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1.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120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82880" y="3035160"/>
            <a:ext cx="682560" cy="5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VR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2.8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50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016000" y="3044880"/>
            <a:ext cx="682920" cy="5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VR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2.8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60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141560" y="3063960"/>
            <a:ext cx="682560" cy="5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V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2.8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100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3120" y="3054240"/>
            <a:ext cx="682560" cy="5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VRS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1.8/2.9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10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5054760" y="1566720"/>
            <a:ext cx="546120" cy="519120"/>
            <a:chOff x="5054760" y="1566720"/>
            <a:chExt cx="546120" cy="519120"/>
          </a:xfrm>
        </p:grpSpPr>
        <p:sp>
          <p:nvSpPr>
            <p:cNvPr id="365" name=""/>
            <p:cNvSpPr/>
            <p:nvPr/>
          </p:nvSpPr>
          <p:spPr>
            <a:xfrm>
              <a:off x="5054760" y="1566720"/>
              <a:ext cx="546120" cy="51912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84280" y="1726560"/>
              <a:ext cx="4942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P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5645160" y="1568520"/>
            <a:ext cx="781200" cy="1531800"/>
          </a:xfrm>
          <a:prstGeom prst="rect">
            <a:avLst/>
          </a:prstGeom>
          <a:solidFill>
            <a:srgbClr val="ff99cc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586480" y="1593720"/>
            <a:ext cx="904680" cy="18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RI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Regul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1~3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batte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volt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sup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451560" y="1576440"/>
            <a:ext cx="730440" cy="453960"/>
            <a:chOff x="6451560" y="1576440"/>
            <a:chExt cx="730440" cy="453960"/>
          </a:xfrm>
        </p:grpSpPr>
        <p:sp>
          <p:nvSpPr>
            <p:cNvPr id="370" name=""/>
            <p:cNvSpPr/>
            <p:nvPr/>
          </p:nvSpPr>
          <p:spPr>
            <a:xfrm>
              <a:off x="6467040" y="1576440"/>
              <a:ext cx="707400" cy="45396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51560" y="1694160"/>
              <a:ext cx="7304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Buzz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2347920" y="3668760"/>
            <a:ext cx="0" cy="403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120760" y="4095720"/>
            <a:ext cx="471600" cy="51120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004840" y="4170240"/>
            <a:ext cx="682920" cy="5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Fla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16Mb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976480" y="4083120"/>
            <a:ext cx="471600" cy="51120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60560" y="4157640"/>
            <a:ext cx="682920" cy="5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S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2Mb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1840" y="3676680"/>
            <a:ext cx="0" cy="403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648240" y="4081320"/>
            <a:ext cx="790560" cy="493920"/>
          </a:xfrm>
          <a:prstGeom prst="rect">
            <a:avLst/>
          </a:prstGeom>
          <a:solidFill>
            <a:srgbClr val="ffcc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040280" y="3676680"/>
            <a:ext cx="0" cy="403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646800" y="4145040"/>
            <a:ext cx="8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808080"/>
                </a:solidFill>
                <a:latin typeface="Times New Roman"/>
              </a:rPr>
              <a:t>CalpysoL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808080"/>
                </a:solidFill>
                <a:latin typeface="Times New Roman"/>
              </a:rPr>
              <a:t>G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1469520" y="3687840"/>
            <a:ext cx="9720" cy="1076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624960" y="4754520"/>
            <a:ext cx="1901880" cy="14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5920" y="4110120"/>
            <a:ext cx="471240" cy="51120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0000" y="4184640"/>
            <a:ext cx="682560" cy="5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S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C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11280" y="3703680"/>
            <a:ext cx="0" cy="403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508120" y="4772160"/>
            <a:ext cx="0" cy="403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738440" y="4772160"/>
            <a:ext cx="0" cy="41256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89080" y="4781520"/>
            <a:ext cx="0" cy="403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41520" y="4772160"/>
            <a:ext cx="0" cy="403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125800" y="5186520"/>
            <a:ext cx="771480" cy="388800"/>
          </a:xfrm>
          <a:prstGeom prst="rect">
            <a:avLst/>
          </a:prstGeom>
          <a:solidFill>
            <a:srgbClr val="ffcc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31920" y="5183280"/>
            <a:ext cx="804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808080"/>
                </a:solidFill>
                <a:latin typeface="Times New Roman"/>
              </a:rPr>
              <a:t>CalpysoL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808080"/>
                </a:solidFill>
                <a:latin typeface="Times New Roman"/>
              </a:rPr>
              <a:t>G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1000" y="5207040"/>
            <a:ext cx="471240" cy="32076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395360" y="5272200"/>
            <a:ext cx="6825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LC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942840" y="5197320"/>
            <a:ext cx="490680" cy="771840"/>
          </a:xfrm>
          <a:prstGeom prst="rect">
            <a:avLst/>
          </a:prstGeom>
          <a:solidFill>
            <a:srgbClr val="ff99cc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914400" y="5181480"/>
            <a:ext cx="64296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RI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Ser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Interf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suppl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volt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36600" y="5195880"/>
            <a:ext cx="566640" cy="45576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7280" y="5261040"/>
            <a:ext cx="682560" cy="5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Analo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7219800" y="1576440"/>
            <a:ext cx="789120" cy="457200"/>
            <a:chOff x="7219800" y="1576440"/>
            <a:chExt cx="789120" cy="457200"/>
          </a:xfrm>
        </p:grpSpPr>
        <p:sp>
          <p:nvSpPr>
            <p:cNvPr id="399" name=""/>
            <p:cNvSpPr/>
            <p:nvPr/>
          </p:nvSpPr>
          <p:spPr>
            <a:xfrm>
              <a:off x="7250400" y="1576440"/>
              <a:ext cx="700560" cy="45720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219800" y="1700280"/>
              <a:ext cx="7891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Vib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8410680" y="1050840"/>
            <a:ext cx="0" cy="5270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074080" y="1593720"/>
            <a:ext cx="714240" cy="163836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048520" y="1657440"/>
            <a:ext cx="77796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Keyp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l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L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B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l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643720" y="3100320"/>
            <a:ext cx="836280" cy="2637000"/>
            <a:chOff x="5643720" y="3100320"/>
            <a:chExt cx="836280" cy="2637000"/>
          </a:xfrm>
        </p:grpSpPr>
        <p:sp>
          <p:nvSpPr>
            <p:cNvPr id="405" name=""/>
            <p:cNvSpPr/>
            <p:nvPr/>
          </p:nvSpPr>
          <p:spPr>
            <a:xfrm>
              <a:off x="6029280" y="3100320"/>
              <a:ext cx="0" cy="49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778360" y="3621240"/>
              <a:ext cx="512640" cy="6937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683320" y="3714840"/>
              <a:ext cx="682200" cy="57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VR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2.8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60m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27840" y="4330800"/>
              <a:ext cx="0" cy="49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02400" y="4842000"/>
              <a:ext cx="685440" cy="8953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643720" y="4916520"/>
              <a:ext cx="836280" cy="7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BJ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f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T/R swit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contro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5A1CB-2B8C-47D1-A21E-BB8B0FD4DC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12:28:55Z</dcterms:created>
  <dc:creator>teddy_chou</dc:creator>
  <dc:description/>
  <dc:language>en-US</dc:language>
  <cp:lastModifiedBy>alexander bühler</cp:lastModifiedBy>
  <dcterms:modified xsi:type="dcterms:W3CDTF">2004-07-07T07:58:18Z</dcterms:modified>
  <cp:revision>38</cp:revision>
  <dc:subject/>
  <dc:title>PowerPoint 簡報</dc:title>
</cp:coreProperties>
</file>