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11.wmf" ContentType="image/x-wmf"/>
  <Override PartName="/ppt/media/image7.png" ContentType="image/png"/>
  <Override PartName="/ppt/media/image1.jpeg" ContentType="image/jpeg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4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5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FF184-EAD4-4849-9D81-1C2BE8B9AC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D5A79-2745-4ED0-9670-FB6D087157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C972-E48D-4728-A3CC-D363FD3D13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748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65120" y="91404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748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65120" y="3461400"/>
            <a:ext cx="250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49A28-7B33-441E-8FA7-087DA51F858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00A12-B374-4B9A-8F53-04FACC1861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C3F3F-8D2A-4909-BEF4-4D16D2958A6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C95F5-0A3E-46B3-9720-1C71A00D8C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D3A76-0B91-4379-86A7-CA319F45F7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CDBCD2-0724-482B-9321-1D2F926A17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05A57-F04D-430C-8ABF-77049495F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92160" y="346140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FF97-B1DC-4DA0-A34C-C84E6FEC8E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914040"/>
            <a:ext cx="3792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3461400"/>
            <a:ext cx="77724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B74F7-CB7B-4B8F-A134-32F89C83E15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itle1_365a" descr=""/>
          <p:cNvPicPr/>
          <p:nvPr/>
        </p:nvPicPr>
        <p:blipFill>
          <a:blip r:embed="rId2"/>
          <a:stretch/>
        </p:blipFill>
        <p:spPr>
          <a:xfrm>
            <a:off x="533520" y="0"/>
            <a:ext cx="8610480" cy="542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09480" y="9140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 Black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" name=""/>
          <p:cNvSpPr/>
          <p:nvPr/>
        </p:nvSpPr>
        <p:spPr>
          <a:xfrm>
            <a:off x="6711840" y="152280"/>
            <a:ext cx="23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ccccff"/>
                </a:solidFill>
                <a:latin typeface="Arial"/>
              </a:rPr>
              <a:t>Company Confidenti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compal_logo" descr=""/>
          <p:cNvPicPr/>
          <p:nvPr/>
        </p:nvPicPr>
        <p:blipFill>
          <a:blip r:embed="rId3"/>
          <a:stretch/>
        </p:blipFill>
        <p:spPr>
          <a:xfrm>
            <a:off x="0" y="0"/>
            <a:ext cx="762120" cy="542880"/>
          </a:xfrm>
          <a:prstGeom prst="rect">
            <a:avLst/>
          </a:prstGeom>
          <a:ln w="0">
            <a:noFill/>
          </a:ln>
        </p:spPr>
      </p:pic>
      <p:pic>
        <p:nvPicPr>
          <p:cNvPr id="4" name="title2_365" descr=""/>
          <p:cNvPicPr/>
          <p:nvPr/>
        </p:nvPicPr>
        <p:blipFill>
          <a:blip r:embed="rId4"/>
          <a:stretch/>
        </p:blipFill>
        <p:spPr>
          <a:xfrm>
            <a:off x="0" y="6224760"/>
            <a:ext cx="9144000" cy="633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27432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87535-24D3-4AC2-B915-F7A1347D8759}" type="slidenum">
              <a:rPr b="1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5800" y="0"/>
            <a:ext cx="77724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990720"/>
            <a:ext cx="7238880" cy="57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A. The mobile phone can’t boot after inserting the  Batte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B. SIM unavailable when insert SIM after tur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. Display no response after turn 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. Keypad’s and LCM backlight no 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E. Receiver has no key 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F. No ring t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G. Main battery Can not be cha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H. Keypad no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I. Vibrator out of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J. Microphone no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K. Earphone no fun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. Can not record 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M. Can not Char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761B1-0BE0-4E82-902A-23F9D0DB943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26880" y="53352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. Main battery Can not be charging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990720"/>
            <a:ext cx="7467480" cy="11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Check the component’s connection and electric characteristic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Check the Fuse(PT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7128000" cy="41148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30928A-2A16-458E-8D83-B3E398B762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690200" y="609480"/>
            <a:ext cx="35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H. Keypad no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8080" y="1066680"/>
            <a:ext cx="746784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If the connector is oxidized or dirty-&gt;Use a eraser to clean the pad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Check the ROW  and C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9880" y="22860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U7 CalpysoLit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066680" y="3124080"/>
          <a:ext cx="601992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124080"/>
                    <a:ext cx="601992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F39BF-30DD-4692-86BF-3D4F24CA5A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1771200" y="533520"/>
            <a:ext cx="389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. Vibrator out of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38080" y="990720"/>
            <a:ext cx="7543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Check the setting. 2. Check the vibrator’s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Check the vib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4. Is the M/B’s pad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oxidized or dirty-&gt;Use a eraser to clea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/B’s pad. 5. Check the component’s conn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6. Check BQ1.3 (normal &gt; 3.4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6553440" cy="3527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DD4C7-D596-48BA-BF56-B4F546E2E13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848600" y="533520"/>
            <a:ext cx="410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J. Microphone no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990720"/>
            <a:ext cx="7315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Check the microphone’s impedance(?K oh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Is the M/B’s pad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oxidized or dirty-&gt;Use a eraser to clean th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M/B’s p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Check the component’s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826920" y="2781360"/>
            <a:ext cx="7274160" cy="3384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C0214-DFEA-4FDC-941A-652E3767600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613880" y="533520"/>
            <a:ext cx="383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K. Earphone no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85800" y="914400"/>
            <a:ext cx="7696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Check the earphone’s impedance, if it inaccuracy  -&gt;replace a earph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Check the earphone’s Jack and conn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686800" cy="4343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90EE2-9DA4-45BA-98BE-4A8542EE3A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618920" y="5335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. Can not recor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727640" y="1168560"/>
            <a:ext cx="454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TP46=32.768K, else-&gt;change a new U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8600" y="1752480"/>
          <a:ext cx="8686800" cy="335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52480"/>
                    <a:ext cx="8686800" cy="33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2590920" y="1523880"/>
            <a:ext cx="6248160" cy="419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2514600" y="1600200"/>
            <a:ext cx="6172200" cy="327672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822240" y="5299200"/>
            <a:ext cx="131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7-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14B43-B642-4CC2-B246-9D8F819D2B3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28600" y="533520"/>
            <a:ext cx="79246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400" spc="-1" strike="noStrike">
                <a:solidFill>
                  <a:srgbClr val="000000"/>
                </a:solidFill>
                <a:latin typeface="Times New Roman"/>
              </a:rPr>
              <a:t>M. Can not Charg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1.Check you use the adap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2.Check I/O Connector failure?</a:t>
            </a: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3.Check I/O Connector Pin3&amp;Pin4 solder creak?</a:t>
            </a: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4</a:t>
            </a: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.</a:t>
            </a:r>
            <a:r>
              <a:rPr b="0" lang="zh-TW" sz="2400" spc="-1" strike="noStrike">
                <a:solidFill>
                  <a:srgbClr val="000000"/>
                </a:solidFill>
                <a:latin typeface="AR MingtiM KSC"/>
                <a:ea typeface="AR MingtiM KSC"/>
              </a:rPr>
              <a:t>IF 4.1.if step1 is ok, then change a new IOTA</a:t>
            </a:r>
            <a:r>
              <a:rPr b="0" lang="zh-TW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2895480"/>
            <a:ext cx="5778720" cy="2855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2C7A2-9391-48E7-B2ED-7B32DD64D07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280160" y="727200"/>
            <a:ext cx="261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wnload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4652C-DDD4-4995-A654-EFE488DDFE7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066680" y="1676520"/>
            <a:ext cx="70866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Check energy of the battery.(VBAT&gt;3.8V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Check Battery connector J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187280" y="2852640"/>
            <a:ext cx="6624720" cy="25066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06240" y="685800"/>
            <a:ext cx="83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mobile phone can’t boot after inserting the battery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17B4E-2F19-476C-87BA-720CD42E07E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. The mobile phone can’t boot after inserting the battery(2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29528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Check the Power-ON path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5715000" y="1371600"/>
            <a:ext cx="2217600" cy="10368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2590920" y="2971800"/>
            <a:ext cx="5759280" cy="2879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62120" y="4343400"/>
            <a:ext cx="1800000" cy="144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66164-C5EE-41A8-9F55-BFC773EE819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739800" y="609480"/>
            <a:ext cx="757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B. SIM unavailable when insert SIM after tur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95280" y="1143000"/>
            <a:ext cx="4572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If the SIM card in other cellph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Check the SIM connecter(con1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143000" y="2362320"/>
            <a:ext cx="6912000" cy="3870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825B82-D44D-4CD4-B5BC-BF986A36AEB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46200" y="609480"/>
            <a:ext cx="563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. Display no response after turn 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90720" y="1143000"/>
            <a:ext cx="7010280" cy="10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Check the pad between M/B and LCM’s FP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Check the LCM in other cell-phon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If  VRIO_2.8V =2.8V (if VRIO_2.8V &lt;2.7V, the LCD will not work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55640" y="2421000"/>
            <a:ext cx="792000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70EF-3C52-4686-BD5E-340FE1B8A6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036440" y="608040"/>
            <a:ext cx="67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. Keypad’s and LCM backlight no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523880" y="1143000"/>
            <a:ext cx="457200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Check the LED D4~D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KEYLED_EN= 1.4 ~ 2.8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39640" y="1989000"/>
            <a:ext cx="8070840" cy="433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6AFD8C-9B2F-4AE0-9E87-496D673600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870200" y="609480"/>
            <a:ext cx="430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. Receiver has no key 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990720"/>
            <a:ext cx="7315200" cy="21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If the receiver’s pins slanting or sag-&gt;To adjust the Receiver pi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Measure the receiver’s impedance(about 32 ohm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M/B pad oxidation or dir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4. Check the components’ connection and impedance(R1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5. change a new IOTA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buClr>
                <a:srgbClr val="b2b2b2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62120" y="3352680"/>
            <a:ext cx="7920000" cy="2934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5C511-5F03-4F50-AE8D-5E18AD68A5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683720" y="533520"/>
            <a:ext cx="243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. No ring t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295280" y="990720"/>
            <a:ext cx="64008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Check the cellphone sett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Check the buzzer connec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3. Check the speaker’s impedance(about ?ohm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4. Check the G2 PWT/BU pin(TP1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914400" y="2590920"/>
            <a:ext cx="7201080" cy="3744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3DA982-8427-4189-9903-6D1D12C40C2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226880" y="533520"/>
            <a:ext cx="637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. Main battery Can not be charging(1/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95280" y="914400"/>
            <a:ext cx="6705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Check if you use the right adap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Check I/O Connector(J13)</a:t>
            </a:r>
            <a:r>
              <a:rPr b="0" lang="zh-TW" sz="1800" spc="-1" strike="noStrike">
                <a:solidFill>
                  <a:srgbClr val="000000"/>
                </a:solidFill>
                <a:latin typeface="Tahoma"/>
              </a:rPr>
              <a:t> focus on Pin1 and Pin2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87280" y="2565360"/>
            <a:ext cx="6985080" cy="2765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FBCB6A-C7FA-4036-BCE9-FAF79CFD03F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7T12:28:55Z</dcterms:created>
  <dc:creator>teddy_chou</dc:creator>
  <dc:description/>
  <dc:language>en-US</dc:language>
  <cp:lastModifiedBy>eleven</cp:lastModifiedBy>
  <dcterms:modified xsi:type="dcterms:W3CDTF">2004-04-08T01:58:53Z</dcterms:modified>
  <cp:revision>43</cp:revision>
  <dc:subject/>
  <dc:title>PowerPoint 簡報</dc:title>
</cp:coreProperties>
</file>