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B3DC9-D755-4B9D-82E9-58FB0CB52E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4614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C3EEE-3F1A-4585-A31A-2FAC0EC099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84CDF-8276-4682-863E-48382A793E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1D779-CFF4-47F1-AE7D-DE3099D1B2C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87D65-0B9D-418E-BF90-439619E0CCF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F49B9-1D94-4965-908F-1BC08192E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B8713F-B9D1-4CE2-9E37-3D6380535BB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0E0627-64B6-4166-A8F0-D1AC6DC264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4325C-216C-46A4-BEDA-BF7A246A5C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FB75F-88BD-417B-BBC7-3E38F35466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AA26D-7A2A-4A7C-AB1F-0052968363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209B9-0C8F-42FB-9E61-51A8748B21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itle1_365a" descr=""/>
          <p:cNvPicPr/>
          <p:nvPr/>
        </p:nvPicPr>
        <p:blipFill>
          <a:blip r:embed="rId2"/>
          <a:stretch/>
        </p:blipFill>
        <p:spPr>
          <a:xfrm>
            <a:off x="0" y="6315120"/>
            <a:ext cx="9144000" cy="542880"/>
          </a:xfrm>
          <a:prstGeom prst="rect">
            <a:avLst/>
          </a:prstGeom>
          <a:ln w="0">
            <a:noFill/>
          </a:ln>
        </p:spPr>
      </p:pic>
      <p:pic>
        <p:nvPicPr>
          <p:cNvPr id="1" name="title1_365a" descr=""/>
          <p:cNvPicPr/>
          <p:nvPr/>
        </p:nvPicPr>
        <p:blipFill>
          <a:blip r:embed="rId3"/>
          <a:stretch/>
        </p:blipFill>
        <p:spPr>
          <a:xfrm>
            <a:off x="533520" y="0"/>
            <a:ext cx="8610480" cy="542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"/>
          <p:cNvSpPr/>
          <p:nvPr/>
        </p:nvSpPr>
        <p:spPr>
          <a:xfrm>
            <a:off x="6711840" y="152280"/>
            <a:ext cx="23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Company Confident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compal_logo" descr=""/>
          <p:cNvPicPr/>
          <p:nvPr/>
        </p:nvPicPr>
        <p:blipFill>
          <a:blip r:embed="rId4"/>
          <a:stretch/>
        </p:blipFill>
        <p:spPr>
          <a:xfrm>
            <a:off x="0" y="0"/>
            <a:ext cx="762120" cy="54288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27432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6295E-15AA-4250-AB61-19638B14901B}" type="slidenum"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title1_365a" descr=""/>
          <p:cNvPicPr/>
          <p:nvPr/>
        </p:nvPicPr>
        <p:blipFill>
          <a:blip r:embed="rId5"/>
          <a:stretch/>
        </p:blipFill>
        <p:spPr>
          <a:xfrm>
            <a:off x="533520" y="0"/>
            <a:ext cx="8610480" cy="5428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6711840" y="152280"/>
            <a:ext cx="23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Company Confident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compal_logo" descr=""/>
          <p:cNvPicPr/>
          <p:nvPr/>
        </p:nvPicPr>
        <p:blipFill>
          <a:blip r:embed="rId6"/>
          <a:stretch/>
        </p:blipFill>
        <p:spPr>
          <a:xfrm>
            <a:off x="0" y="0"/>
            <a:ext cx="762120" cy="54288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609480" y="6854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115 L3 Training Slid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44360"/>
            <a:ext cx="29718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C115 L3 training slides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0" y="1981080"/>
            <a:ext cx="4800600" cy="4038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016B8B-3EA2-4F04-A076-68E4AE31CC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4343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duct Overvie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Spec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GSM 900/1800 or 850/19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Size = 72 c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Weight &lt; 80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Display Pixel area 96x6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Battery 860mAH Li-ion remo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Antenna : Inter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733920" cy="3504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38080" y="0"/>
            <a:ext cx="3962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0000"/>
                </a:solidFill>
                <a:latin typeface="Times New Roman"/>
              </a:rPr>
              <a:t>Product Overview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774A-149E-4FC2-9EFF-90D99A1384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0"/>
            <a:ext cx="2133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0000"/>
                </a:solidFill>
                <a:latin typeface="Verdana"/>
              </a:rPr>
              <a:t>Chip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09480" y="762120"/>
            <a:ext cx="800748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U15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“RI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(Transceiver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IC, TX/RX VC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U13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“SKY77324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(PA + Match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U1 “IOTA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(I/Q signals, power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management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, acoustic, SIM,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RF control 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U7 ” CalpysoLite_G2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(DSP 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U5 ”NCP345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(Over Voltage Protection 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U104”S-8241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(Charge I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U24</a:t>
            </a:r>
            <a:r>
              <a:rPr b="0" lang="sv-SE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SRAM 2Mbit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U100 Flash 16Mbit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9DC98E-EB89-4260-9B0A-84E883ADCAE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609480" y="0"/>
            <a:ext cx="5486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Function Block Diagr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78320" y="3138480"/>
            <a:ext cx="1438200" cy="1281240"/>
          </a:xfrm>
          <a:prstGeom prst="rect">
            <a:avLst/>
          </a:prstGeom>
          <a:solidFill>
            <a:srgbClr val="cccc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86400" y="3505320"/>
            <a:ext cx="988920" cy="1068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imes New Roman"/>
              </a:rPr>
              <a:t>CPU(G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Calypos L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30240" y="3116160"/>
            <a:ext cx="1702080" cy="1165320"/>
          </a:xfrm>
          <a:prstGeom prst="rect">
            <a:avLst/>
          </a:prstGeom>
          <a:solidFill>
            <a:srgbClr val="cccc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364120" y="3483000"/>
            <a:ext cx="7264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O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21320" y="888840"/>
            <a:ext cx="1054080" cy="63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505840" y="888840"/>
            <a:ext cx="106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X7732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102440" y="1330200"/>
            <a:ext cx="1515960" cy="638280"/>
          </a:xfrm>
          <a:prstGeom prst="rect">
            <a:avLst/>
          </a:prstGeom>
          <a:solidFill>
            <a:srgbClr val="ccffff"/>
          </a:solidFill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85800" y="1393920"/>
            <a:ext cx="175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/R SWI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MSP43AA-19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962000" y="5413320"/>
            <a:ext cx="1384560" cy="765360"/>
          </a:xfrm>
          <a:prstGeom prst="rect">
            <a:avLst/>
          </a:prstGeom>
          <a:solidFill>
            <a:srgbClr val="ffff00"/>
          </a:solidFill>
          <a:ln w="31680">
            <a:solidFill>
              <a:srgbClr val="3333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004480" y="5541840"/>
            <a:ext cx="1217160" cy="64260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pl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ono B/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32440" y="3260880"/>
            <a:ext cx="598680" cy="6379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883560" y="3349800"/>
            <a:ext cx="515880" cy="45900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INTE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Flash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16Mb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97120" y="1276200"/>
            <a:ext cx="509400" cy="282600"/>
          </a:xfrm>
          <a:prstGeom prst="rect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52480" y="1287360"/>
            <a:ext cx="69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rys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5850000" y="3643200"/>
            <a:ext cx="988920" cy="5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5840280" y="3827160"/>
            <a:ext cx="989280" cy="468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949360" y="3463920"/>
            <a:ext cx="61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[1..22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878080" y="3649680"/>
            <a:ext cx="697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B[0..15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081760" y="5189400"/>
            <a:ext cx="855360" cy="384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170320" y="5227560"/>
            <a:ext cx="813240" cy="3373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eyp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746520" y="3032280"/>
            <a:ext cx="45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742200" y="317988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57680" y="2712960"/>
            <a:ext cx="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296080" y="2425680"/>
            <a:ext cx="61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x_I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X_I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95840" y="2031480"/>
            <a:ext cx="1440" cy="65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016520" y="2174760"/>
            <a:ext cx="2174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3W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(RF_DAT, RF_CLK, RF_L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752560" y="882720"/>
            <a:ext cx="1449720" cy="11365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10320" y="1108080"/>
            <a:ext cx="891000" cy="8254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517920" y="1428840"/>
            <a:ext cx="1839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283040" y="1282680"/>
            <a:ext cx="6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149920" y="179856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’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33760" y="2754360"/>
            <a:ext cx="0" cy="3841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899520" y="2762280"/>
            <a:ext cx="69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26’M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75400" y="1138320"/>
            <a:ext cx="855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2587680" y="4483080"/>
            <a:ext cx="137520" cy="313920"/>
            <a:chOff x="2587680" y="4483080"/>
            <a:chExt cx="137520" cy="313920"/>
          </a:xfrm>
        </p:grpSpPr>
        <p:sp>
          <p:nvSpPr>
            <p:cNvPr id="91" name=""/>
            <p:cNvSpPr/>
            <p:nvPr/>
          </p:nvSpPr>
          <p:spPr>
            <a:xfrm>
              <a:off x="2587680" y="4483080"/>
              <a:ext cx="132480" cy="127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593080" y="4605480"/>
              <a:ext cx="132120" cy="19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2484720" y="4764240"/>
            <a:ext cx="42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I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685920" y="284004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uzz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872400" y="3079800"/>
            <a:ext cx="52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7399440" y="2919240"/>
            <a:ext cx="196560" cy="319320"/>
            <a:chOff x="7399440" y="2919240"/>
            <a:chExt cx="196560" cy="319320"/>
          </a:xfrm>
        </p:grpSpPr>
        <p:sp>
          <p:nvSpPr>
            <p:cNvPr id="97" name=""/>
            <p:cNvSpPr/>
            <p:nvPr/>
          </p:nvSpPr>
          <p:spPr>
            <a:xfrm>
              <a:off x="7399440" y="2982960"/>
              <a:ext cx="65520" cy="191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rot="5400000">
              <a:off x="7370640" y="3013200"/>
              <a:ext cx="319320" cy="131040"/>
            </a:xfrm>
            <a:custGeom>
              <a:avLst/>
              <a:gdLst>
                <a:gd name="textAreaLeft" fmla="*/ 70200 w 319320"/>
                <a:gd name="textAreaRight" fmla="*/ 249120 w 319320"/>
                <a:gd name="textAreaTop" fmla="*/ 28800 h 131040"/>
                <a:gd name="textAreaBottom" fmla="*/ 102240 h 131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6640" bIns="26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4624920" y="1649520"/>
            <a:ext cx="575280" cy="307080"/>
            <a:chOff x="4624920" y="1649520"/>
            <a:chExt cx="575280" cy="307080"/>
          </a:xfrm>
        </p:grpSpPr>
        <p:sp>
          <p:nvSpPr>
            <p:cNvPr id="100" name=""/>
            <p:cNvSpPr/>
            <p:nvPr/>
          </p:nvSpPr>
          <p:spPr>
            <a:xfrm>
              <a:off x="4680720" y="1665000"/>
              <a:ext cx="461520" cy="2386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624920" y="1649520"/>
              <a:ext cx="575280" cy="30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4626360" y="1905120"/>
            <a:ext cx="575280" cy="307080"/>
            <a:chOff x="4626360" y="1905120"/>
            <a:chExt cx="575280" cy="307080"/>
          </a:xfrm>
        </p:grpSpPr>
        <p:sp>
          <p:nvSpPr>
            <p:cNvPr id="103" name=""/>
            <p:cNvSpPr/>
            <p:nvPr/>
          </p:nvSpPr>
          <p:spPr>
            <a:xfrm>
              <a:off x="4682160" y="1919160"/>
              <a:ext cx="461520" cy="2401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26360" y="1905120"/>
              <a:ext cx="575280" cy="3070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SA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5" name=""/>
          <p:cNvSpPr/>
          <p:nvPr/>
        </p:nvSpPr>
        <p:spPr>
          <a:xfrm flipH="1">
            <a:off x="5152680" y="1776240"/>
            <a:ext cx="194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5416200" y="1905120"/>
            <a:ext cx="1685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416560" y="1909800"/>
            <a:ext cx="0" cy="12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5168520" y="2031840"/>
            <a:ext cx="2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02280" y="1776240"/>
            <a:ext cx="461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4532400" y="2031840"/>
            <a:ext cx="131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32400" y="1905120"/>
            <a:ext cx="0" cy="12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202280" y="1905120"/>
            <a:ext cx="3301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160520" y="774720"/>
            <a:ext cx="66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GSM_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424160" y="5646600"/>
            <a:ext cx="527040" cy="0"/>
          </a:xfrm>
          <a:prstGeom prst="line">
            <a:avLst/>
          </a:prstGeom>
          <a:ln w="1584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29480" y="5398920"/>
            <a:ext cx="59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nRes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274440" y="325440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106320" y="5189400"/>
            <a:ext cx="749160" cy="459000"/>
            <a:chOff x="6106320" y="5189400"/>
            <a:chExt cx="749160" cy="459000"/>
          </a:xfrm>
        </p:grpSpPr>
        <p:sp>
          <p:nvSpPr>
            <p:cNvPr id="118" name=""/>
            <p:cNvSpPr/>
            <p:nvPr/>
          </p:nvSpPr>
          <p:spPr>
            <a:xfrm>
              <a:off x="6117480" y="5194440"/>
              <a:ext cx="729000" cy="38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106320" y="5189400"/>
              <a:ext cx="749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Batte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Conn_3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5672160" y="4645080"/>
            <a:ext cx="93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cc"/>
                </a:solidFill>
                <a:latin typeface="Times New Roman"/>
              </a:rPr>
              <a:t>BATTE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90680" y="5818320"/>
            <a:ext cx="263520" cy="25380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032120" y="6040440"/>
            <a:ext cx="114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light_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149800" y="5786280"/>
            <a:ext cx="102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ypad L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85560" y="1601640"/>
            <a:ext cx="132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GSM_Rx (GSM850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86640" y="1855800"/>
            <a:ext cx="979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CS_Rx (PC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23160" y="839880"/>
            <a:ext cx="68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SM_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171680" y="1176480"/>
            <a:ext cx="63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DCS_T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575400" y="101124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7629480" y="1011240"/>
            <a:ext cx="0" cy="3189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431120" y="1137960"/>
            <a:ext cx="0" cy="1918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840720" y="1116000"/>
            <a:ext cx="65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CS_P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389400" y="4675320"/>
            <a:ext cx="387360" cy="24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337560" y="4710240"/>
            <a:ext cx="547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Headse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87720" y="4286160"/>
            <a:ext cx="0" cy="398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654280" y="4290840"/>
            <a:ext cx="0" cy="196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226080" y="3666960"/>
            <a:ext cx="549360" cy="452520"/>
            <a:chOff x="226080" y="3666960"/>
            <a:chExt cx="549360" cy="452520"/>
          </a:xfrm>
        </p:grpSpPr>
        <p:sp>
          <p:nvSpPr>
            <p:cNvPr id="137" name=""/>
            <p:cNvSpPr/>
            <p:nvPr/>
          </p:nvSpPr>
          <p:spPr>
            <a:xfrm>
              <a:off x="228600" y="3666960"/>
              <a:ext cx="527040" cy="452520"/>
            </a:xfrm>
            <a:prstGeom prst="rect">
              <a:avLst/>
            </a:prstGeom>
            <a:solidFill>
              <a:srgbClr val="ccccff"/>
            </a:solidFill>
            <a:ln w="316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26080" y="3787560"/>
              <a:ext cx="54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S-8241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6037200" y="633240"/>
            <a:ext cx="0" cy="255600"/>
          </a:xfrm>
          <a:prstGeom prst="line">
            <a:avLst/>
          </a:prstGeom>
          <a:ln w="158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632560" y="62712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42080" y="298296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>
            <a:off x="1292400" y="3164040"/>
            <a:ext cx="527040" cy="0"/>
          </a:xfrm>
          <a:prstGeom prst="line">
            <a:avLst/>
          </a:prstGeom>
          <a:ln w="158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 flipV="1">
            <a:off x="1409400" y="3849840"/>
            <a:ext cx="399960" cy="14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61920" y="4665600"/>
            <a:ext cx="490680" cy="344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02880" y="4732200"/>
            <a:ext cx="61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CP34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727080" y="3313080"/>
            <a:ext cx="5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752560" y="1711440"/>
            <a:ext cx="199800" cy="128880"/>
            <a:chOff x="2752560" y="1711440"/>
            <a:chExt cx="199800" cy="128880"/>
          </a:xfrm>
        </p:grpSpPr>
        <p:sp>
          <p:nvSpPr>
            <p:cNvPr id="148" name=""/>
            <p:cNvSpPr/>
            <p:nvPr/>
          </p:nvSpPr>
          <p:spPr>
            <a:xfrm rot="5352600">
              <a:off x="2821680" y="1709640"/>
              <a:ext cx="127080" cy="132120"/>
            </a:xfrm>
            <a:prstGeom prst="flowChartMerg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9440" bIns="19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rot="5352600">
              <a:off x="2754360" y="1743840"/>
              <a:ext cx="63360" cy="66240"/>
            </a:xfrm>
            <a:prstGeom prst="ellipse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"/>
          <p:cNvSpPr/>
          <p:nvPr/>
        </p:nvSpPr>
        <p:spPr>
          <a:xfrm>
            <a:off x="2752560" y="1457280"/>
            <a:ext cx="26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823000" y="3371760"/>
            <a:ext cx="33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146640" y="3079800"/>
            <a:ext cx="790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3927600" y="2031480"/>
            <a:ext cx="1440" cy="584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2176560" y="4546440"/>
            <a:ext cx="263520" cy="382680"/>
            <a:chOff x="2176560" y="4546440"/>
            <a:chExt cx="263520" cy="382680"/>
          </a:xfrm>
        </p:grpSpPr>
        <p:sp>
          <p:nvSpPr>
            <p:cNvPr id="155" name=""/>
            <p:cNvSpPr/>
            <p:nvPr/>
          </p:nvSpPr>
          <p:spPr>
            <a:xfrm>
              <a:off x="2242080" y="4546440"/>
              <a:ext cx="131760" cy="3826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176560" y="4610160"/>
              <a:ext cx="263520" cy="2552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2308320" y="426564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3652920" y="3951000"/>
            <a:ext cx="0" cy="723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652920" y="3951360"/>
            <a:ext cx="714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082960" y="1569960"/>
            <a:ext cx="0" cy="15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721520" y="1978200"/>
            <a:ext cx="47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F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60640" y="5157720"/>
            <a:ext cx="0" cy="260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67880" y="5376960"/>
            <a:ext cx="59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CL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479040" y="575316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99"/>
                </a:solidFill>
                <a:latin typeface="Times New Roman"/>
              </a:rPr>
              <a:t>S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10160" y="4870440"/>
            <a:ext cx="0" cy="314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5103360" y="4865760"/>
            <a:ext cx="406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5103720" y="4429080"/>
            <a:ext cx="0" cy="441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46560" y="5605560"/>
            <a:ext cx="1487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351240" y="5759280"/>
            <a:ext cx="1631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4834080" y="4419720"/>
            <a:ext cx="0" cy="11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4976640" y="4428720"/>
            <a:ext cx="0" cy="133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319480" y="1457280"/>
            <a:ext cx="43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951280" y="1776240"/>
            <a:ext cx="64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3016080" y="1457280"/>
            <a:ext cx="0" cy="3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279520" y="1776240"/>
            <a:ext cx="473040" cy="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62360" y="2712960"/>
            <a:ext cx="423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3279600" y="2031840"/>
            <a:ext cx="0" cy="681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951280" y="2031840"/>
            <a:ext cx="0" cy="382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2357280" y="2414520"/>
            <a:ext cx="59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357280" y="241452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92840" y="5583240"/>
            <a:ext cx="528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6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973080" y="5811840"/>
            <a:ext cx="52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2 p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76600" y="434016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cc99"/>
                </a:solidFill>
                <a:latin typeface="Times New Roman"/>
              </a:rPr>
              <a:t>Ear_Dete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46640" y="3079440"/>
            <a:ext cx="0" cy="291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059360" y="2031480"/>
            <a:ext cx="0" cy="52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2214720" y="947880"/>
            <a:ext cx="527040" cy="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292400" y="3414600"/>
            <a:ext cx="527040" cy="0"/>
          </a:xfrm>
          <a:prstGeom prst="line">
            <a:avLst/>
          </a:prstGeom>
          <a:ln w="158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27040" y="824040"/>
            <a:ext cx="118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_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9640" y="3206880"/>
            <a:ext cx="109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66cc"/>
                </a:solidFill>
                <a:latin typeface="Times New Roman"/>
              </a:rPr>
              <a:t>TEMP_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180040" y="1449360"/>
            <a:ext cx="330120" cy="0"/>
          </a:xfrm>
          <a:prstGeom prst="line">
            <a:avLst/>
          </a:prstGeom>
          <a:ln w="158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59480" y="1336680"/>
            <a:ext cx="725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EN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092560" y="2749680"/>
            <a:ext cx="0" cy="382320"/>
          </a:xfrm>
          <a:prstGeom prst="line">
            <a:avLst/>
          </a:prstGeom>
          <a:ln w="158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827600" y="2583000"/>
            <a:ext cx="72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E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53080" y="888840"/>
            <a:ext cx="471240" cy="1908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718160" y="88884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Att_2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753080" y="1079640"/>
            <a:ext cx="471240" cy="1918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18160" y="1079640"/>
            <a:ext cx="64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00000"/>
                </a:solidFill>
                <a:latin typeface="Times New Roman"/>
              </a:rPr>
              <a:t>Att_2d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205160" y="979560"/>
            <a:ext cx="544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221440" y="976320"/>
            <a:ext cx="274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218120" y="1168560"/>
            <a:ext cx="54612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22880" y="1163520"/>
            <a:ext cx="279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300720" y="633240"/>
            <a:ext cx="0" cy="255600"/>
          </a:xfrm>
          <a:prstGeom prst="line">
            <a:avLst/>
          </a:prstGeom>
          <a:ln w="158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51400" y="617400"/>
            <a:ext cx="922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SM_TX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5537160" y="2930400"/>
            <a:ext cx="0" cy="192240"/>
          </a:xfrm>
          <a:prstGeom prst="line">
            <a:avLst/>
          </a:prstGeom>
          <a:ln w="158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5530680" y="2738160"/>
            <a:ext cx="6480" cy="250920"/>
          </a:xfrm>
          <a:prstGeom prst="line">
            <a:avLst/>
          </a:prstGeom>
          <a:ln w="158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826240" y="3449520"/>
            <a:ext cx="100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948440" y="1015920"/>
            <a:ext cx="0" cy="319320"/>
          </a:xfrm>
          <a:prstGeom prst="line">
            <a:avLst/>
          </a:prstGeom>
          <a:ln w="158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926480" y="1004760"/>
            <a:ext cx="92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SM_TX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553000" y="2695680"/>
            <a:ext cx="92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SM_TX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V="1">
            <a:off x="5421240" y="44193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553160" y="5589720"/>
            <a:ext cx="460440" cy="190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002440" y="5557680"/>
            <a:ext cx="59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99"/>
                </a:solidFill>
                <a:latin typeface="Times New Roman"/>
              </a:rPr>
              <a:t>GP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4695840"/>
            <a:ext cx="5270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70520" y="254160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38760" y="261144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95840" y="268128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21240" y="2681280"/>
            <a:ext cx="0" cy="441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53000" y="2611440"/>
            <a:ext cx="0" cy="511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784760" y="254808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558200" y="5892840"/>
            <a:ext cx="461880" cy="190440"/>
          </a:xfrm>
          <a:prstGeom prst="rect">
            <a:avLst/>
          </a:prstGeom>
          <a:solidFill>
            <a:srgbClr val="ff66cc"/>
          </a:solidFill>
          <a:ln w="9360">
            <a:solidFill>
              <a:srgbClr val="ff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8008920" y="5859360"/>
            <a:ext cx="59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cc"/>
                </a:solidFill>
                <a:latin typeface="Times New Roman"/>
              </a:rPr>
              <a:t>AD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467160" y="4281480"/>
            <a:ext cx="0" cy="3873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543480" y="3637080"/>
            <a:ext cx="81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715200" y="3462480"/>
            <a:ext cx="61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K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49600" y="3489480"/>
            <a:ext cx="806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549600" y="3351240"/>
            <a:ext cx="80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554280" y="3206880"/>
            <a:ext cx="801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964800" y="2249640"/>
            <a:ext cx="540360" cy="387720"/>
            <a:chOff x="964800" y="2249640"/>
            <a:chExt cx="540360" cy="387720"/>
          </a:xfrm>
        </p:grpSpPr>
        <p:sp>
          <p:nvSpPr>
            <p:cNvPr id="229" name=""/>
            <p:cNvSpPr/>
            <p:nvPr/>
          </p:nvSpPr>
          <p:spPr>
            <a:xfrm>
              <a:off x="965880" y="2249640"/>
              <a:ext cx="461160" cy="3834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964800" y="2300040"/>
              <a:ext cx="54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SI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1" name=""/>
          <p:cNvSpPr/>
          <p:nvPr/>
        </p:nvSpPr>
        <p:spPr>
          <a:xfrm flipH="1">
            <a:off x="1424160" y="2430360"/>
            <a:ext cx="460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84240" y="2430360"/>
            <a:ext cx="0" cy="70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554280" y="3797280"/>
            <a:ext cx="808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60480" y="3629160"/>
            <a:ext cx="69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1214280" y="4024080"/>
            <a:ext cx="0" cy="64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958680" y="3656160"/>
            <a:ext cx="533160" cy="379080"/>
            <a:chOff x="958680" y="3656160"/>
            <a:chExt cx="533160" cy="379080"/>
          </a:xfrm>
        </p:grpSpPr>
        <p:sp>
          <p:nvSpPr>
            <p:cNvPr id="237" name=""/>
            <p:cNvSpPr/>
            <p:nvPr/>
          </p:nvSpPr>
          <p:spPr>
            <a:xfrm>
              <a:off x="958680" y="3780360"/>
              <a:ext cx="533160" cy="24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3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Battery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8" name=""/>
            <p:cNvGrpSpPr/>
            <p:nvPr/>
          </p:nvGrpSpPr>
          <p:grpSpPr>
            <a:xfrm>
              <a:off x="1028520" y="3656160"/>
              <a:ext cx="380880" cy="379080"/>
              <a:chOff x="1028520" y="3656160"/>
              <a:chExt cx="380880" cy="379080"/>
            </a:xfrm>
          </p:grpSpPr>
          <p:sp>
            <p:nvSpPr>
              <p:cNvPr id="239" name=""/>
              <p:cNvSpPr/>
              <p:nvPr/>
            </p:nvSpPr>
            <p:spPr>
              <a:xfrm>
                <a:off x="1028520" y="3736800"/>
                <a:ext cx="380880" cy="298440"/>
              </a:xfrm>
              <a:prstGeom prst="rect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091880" y="3656160"/>
                <a:ext cx="76320" cy="745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276200" y="3656160"/>
                <a:ext cx="75960" cy="74520"/>
              </a:xfrm>
              <a:prstGeom prst="rect">
                <a:avLst/>
              </a:prstGeom>
              <a:noFill/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720" bIns="277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2" name=""/>
          <p:cNvSpPr/>
          <p:nvPr/>
        </p:nvSpPr>
        <p:spPr>
          <a:xfrm flipV="1">
            <a:off x="1209600" y="5009760"/>
            <a:ext cx="0" cy="244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923760" y="5189400"/>
            <a:ext cx="725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harger 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3784680" y="4275000"/>
            <a:ext cx="566640" cy="0"/>
          </a:xfrm>
          <a:prstGeom prst="line">
            <a:avLst/>
          </a:prstGeom>
          <a:ln w="15840">
            <a:solidFill>
              <a:srgbClr val="3333cc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62440" y="4073400"/>
            <a:ext cx="60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SCS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432400" y="5599080"/>
            <a:ext cx="263520" cy="255600"/>
          </a:xfrm>
          <a:prstGeom prst="sun">
            <a:avLst>
              <a:gd name="adj" fmla="val 250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035080" y="4888080"/>
            <a:ext cx="668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Vib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422440" y="5116680"/>
            <a:ext cx="6660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351160" y="5126040"/>
            <a:ext cx="6660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478480" y="4938840"/>
            <a:ext cx="6516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472000" y="5002200"/>
            <a:ext cx="6696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55840" y="2263680"/>
            <a:ext cx="6516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243240" y="2317680"/>
            <a:ext cx="65160" cy="6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921040" y="2232000"/>
            <a:ext cx="6516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913120" y="2286000"/>
            <a:ext cx="6660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390920" y="1870200"/>
            <a:ext cx="6516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334040" y="1879560"/>
            <a:ext cx="6660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375080" y="1749600"/>
            <a:ext cx="66600" cy="63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433760" y="1741320"/>
            <a:ext cx="65160" cy="65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55960" y="5153040"/>
            <a:ext cx="2668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4718160" y="4424040"/>
            <a:ext cx="0" cy="73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424480" y="464652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483240" y="4649760"/>
            <a:ext cx="0" cy="54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837480" y="4010040"/>
            <a:ext cx="604800" cy="4557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858000" y="4038480"/>
            <a:ext cx="555480" cy="337320"/>
          </a:xfrm>
          <a:prstGeom prst="rect">
            <a:avLst/>
          </a:prstGeom>
          <a:solidFill>
            <a:srgbClr val="ccccff"/>
          </a:solidFill>
          <a:ln w="25560">
            <a:solidFill>
              <a:srgbClr val="cccc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SRAM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2Mb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575400" y="3643200"/>
            <a:ext cx="0" cy="446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575400" y="4089240"/>
            <a:ext cx="263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43640" y="3833640"/>
            <a:ext cx="0" cy="384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43640" y="4218120"/>
            <a:ext cx="3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15080" y="4389480"/>
            <a:ext cx="101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917320" y="4173480"/>
            <a:ext cx="52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CS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6160" y="3887640"/>
            <a:ext cx="262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F07B2-DAA1-44F9-9EE4-51F21647F60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609480" y="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PCB Bottom Vie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E88_bot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8686800" cy="37717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819520" y="1371600"/>
            <a:ext cx="0" cy="16765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590920" y="10666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C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8381880" y="4191120"/>
            <a:ext cx="0" cy="12189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001000" y="5867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icro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620120" y="1295280"/>
            <a:ext cx="0" cy="15242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553080" y="1295280"/>
            <a:ext cx="0" cy="15242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029200" y="1219320"/>
            <a:ext cx="0" cy="15238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5068800" y="4203720"/>
            <a:ext cx="0" cy="1295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6553080" y="4038480"/>
            <a:ext cx="0" cy="14479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V="1">
            <a:off x="7620120" y="4038480"/>
            <a:ext cx="0" cy="14479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38080" y="1371600"/>
            <a:ext cx="0" cy="20574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33520" y="106668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00600" y="762120"/>
            <a:ext cx="6094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24480" y="838080"/>
            <a:ext cx="60984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467480" y="838080"/>
            <a:ext cx="60984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76920" y="5486400"/>
            <a:ext cx="6094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00800" y="5486400"/>
            <a:ext cx="6094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67480" y="5486400"/>
            <a:ext cx="60984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56CC5-5312-42D2-AC20-CA06A24A686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5800" y="152280"/>
            <a:ext cx="35812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PCB Top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e88_top" descr=""/>
          <p:cNvPicPr/>
          <p:nvPr/>
        </p:nvPicPr>
        <p:blipFill>
          <a:blip r:embed="rId1"/>
          <a:stretch/>
        </p:blipFill>
        <p:spPr>
          <a:xfrm>
            <a:off x="0" y="1447920"/>
            <a:ext cx="9144000" cy="390348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1676520" y="1447920"/>
            <a:ext cx="0" cy="6858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295280" y="1066680"/>
            <a:ext cx="121932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6MHz 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438280" y="1219320"/>
            <a:ext cx="0" cy="15238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685800"/>
            <a:ext cx="121932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U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Tranceiver 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267080" y="1219320"/>
            <a:ext cx="0" cy="13716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57600" y="685800"/>
            <a:ext cx="18288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management  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477120" y="1219320"/>
            <a:ext cx="0" cy="1295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019920" y="685800"/>
            <a:ext cx="12189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 conn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1295280"/>
            <a:ext cx="0" cy="7621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15200" y="838080"/>
            <a:ext cx="144792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dio j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8229240" y="1447920"/>
            <a:ext cx="304920" cy="16761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285040" y="1371600"/>
            <a:ext cx="8589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Z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z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 flipV="1">
            <a:off x="8534520" y="3962160"/>
            <a:ext cx="0" cy="14475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458200" y="5791320"/>
            <a:ext cx="99072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 ja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 flipV="1">
            <a:off x="7620120" y="4952520"/>
            <a:ext cx="0" cy="6858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7620120" y="4952520"/>
            <a:ext cx="228600" cy="68580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467480" y="5638680"/>
            <a:ext cx="9907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M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Vibra mo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conn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6858000" y="4495320"/>
            <a:ext cx="304920" cy="12193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5715000"/>
            <a:ext cx="106668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tte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019920" y="5791320"/>
            <a:ext cx="10666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ash 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257800" y="5638680"/>
            <a:ext cx="10666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RAM 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6172200" y="4343400"/>
            <a:ext cx="0" cy="14479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5410080" y="4419720"/>
            <a:ext cx="0" cy="121896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914640" y="4290480"/>
            <a:ext cx="0" cy="16765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733920" y="5943600"/>
            <a:ext cx="144756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U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Calpysolite_G2 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H="1" flipV="1">
            <a:off x="2514600" y="4647960"/>
            <a:ext cx="838080" cy="10666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5715000"/>
            <a:ext cx="68580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 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 flipH="1" flipV="1">
            <a:off x="1752120" y="4495320"/>
            <a:ext cx="762120" cy="12956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362320" y="5791320"/>
            <a:ext cx="1066680" cy="4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/R sw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066680" y="5791320"/>
            <a:ext cx="144792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P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tenna Conne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 flipV="1">
            <a:off x="1066320" y="4876920"/>
            <a:ext cx="228600" cy="8380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5410080"/>
            <a:ext cx="144792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P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rnal Antenn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228600" y="4343400"/>
            <a:ext cx="304920" cy="9907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219320"/>
            <a:ext cx="1295640" cy="22096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1219320"/>
            <a:ext cx="1295640" cy="243828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28600" y="838080"/>
            <a:ext cx="137160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2/F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W 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4330440" y="4905360"/>
            <a:ext cx="88920" cy="581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4267080" y="5486400"/>
            <a:ext cx="106704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2.768kH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ys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1E0B4-100C-4001-9804-E59ECF96772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62120" y="0"/>
            <a:ext cx="3657600" cy="6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3600" spc="-1" strike="noStrike">
                <a:solidFill>
                  <a:srgbClr val="ff0000"/>
                </a:solidFill>
                <a:latin typeface="Verdana"/>
              </a:rPr>
              <a:t>Power Tre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784680" y="787320"/>
            <a:ext cx="8888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114800" y="812880"/>
            <a:ext cx="749160" cy="44460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962520" y="83808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imes New Roman"/>
              </a:rPr>
              <a:t>B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2374560" y="1039680"/>
            <a:ext cx="1741320" cy="1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 flipH="1">
            <a:off x="4861080" y="1041480"/>
            <a:ext cx="355752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75480" y="1052640"/>
            <a:ext cx="0" cy="527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21640" y="1044720"/>
            <a:ext cx="0" cy="527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14880" y="1054080"/>
            <a:ext cx="0" cy="49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321160" y="1044720"/>
            <a:ext cx="0" cy="49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1758960" y="1562040"/>
            <a:ext cx="1222200" cy="459720"/>
            <a:chOff x="1758960" y="1562040"/>
            <a:chExt cx="1222200" cy="459720"/>
          </a:xfrm>
        </p:grpSpPr>
        <p:sp>
          <p:nvSpPr>
            <p:cNvPr id="344" name=""/>
            <p:cNvSpPr/>
            <p:nvPr/>
          </p:nvSpPr>
          <p:spPr>
            <a:xfrm>
              <a:off x="1860120" y="1577880"/>
              <a:ext cx="974520" cy="399960"/>
            </a:xfrm>
            <a:prstGeom prst="rect">
              <a:avLst/>
            </a:prstGeom>
            <a:solidFill>
              <a:srgbClr val="ccffff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758960" y="1562040"/>
              <a:ext cx="122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808080"/>
                  </a:solidFill>
                  <a:latin typeface="Times New Roman"/>
                </a:rPr>
                <a:t>IO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374920" y="1052640"/>
            <a:ext cx="0" cy="49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354400" y="1989000"/>
            <a:ext cx="0" cy="49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 flipV="1">
            <a:off x="637920" y="2476080"/>
            <a:ext cx="3392280" cy="126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52320" y="2476440"/>
            <a:ext cx="0" cy="49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77800" y="2502000"/>
            <a:ext cx="0" cy="49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367000" y="2502000"/>
            <a:ext cx="0" cy="49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230640" y="2502000"/>
            <a:ext cx="0" cy="4982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043520" y="2476440"/>
            <a:ext cx="0" cy="4986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860560" y="2981160"/>
            <a:ext cx="731880" cy="69408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673440" y="2981160"/>
            <a:ext cx="731880" cy="69408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996920" y="2981160"/>
            <a:ext cx="731880" cy="69408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120680" y="2994120"/>
            <a:ext cx="731880" cy="693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82600" y="2994120"/>
            <a:ext cx="731880" cy="69372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692520" y="3075120"/>
            <a:ext cx="6825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VRDBB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1.5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120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82880" y="3035160"/>
            <a:ext cx="6825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VR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2.8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50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016000" y="3044880"/>
            <a:ext cx="68292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VRM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2.8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60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141560" y="3063960"/>
            <a:ext cx="6825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VR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2.8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100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03120" y="3054240"/>
            <a:ext cx="6825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VR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1.8/2.9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10m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5054760" y="1566720"/>
            <a:ext cx="546120" cy="519120"/>
            <a:chOff x="5054760" y="1566720"/>
            <a:chExt cx="546120" cy="519120"/>
          </a:xfrm>
        </p:grpSpPr>
        <p:sp>
          <p:nvSpPr>
            <p:cNvPr id="365" name=""/>
            <p:cNvSpPr/>
            <p:nvPr/>
          </p:nvSpPr>
          <p:spPr>
            <a:xfrm>
              <a:off x="5054760" y="1566720"/>
              <a:ext cx="546120" cy="519120"/>
            </a:xfrm>
            <a:prstGeom prst="rect">
              <a:avLst/>
            </a:prstGeom>
            <a:solidFill>
              <a:srgbClr val="00ff00"/>
            </a:solidFill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84280" y="1726560"/>
              <a:ext cx="49428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P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>
            <a:off x="5645160" y="1568520"/>
            <a:ext cx="781200" cy="1531800"/>
          </a:xfrm>
          <a:prstGeom prst="rect">
            <a:avLst/>
          </a:prstGeom>
          <a:solidFill>
            <a:srgbClr val="ff99cc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586480" y="1593720"/>
            <a:ext cx="904680" cy="18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RI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Regul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1~3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battery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voltag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supp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451560" y="1576440"/>
            <a:ext cx="730440" cy="453960"/>
            <a:chOff x="6451560" y="1576440"/>
            <a:chExt cx="730440" cy="453960"/>
          </a:xfrm>
        </p:grpSpPr>
        <p:sp>
          <p:nvSpPr>
            <p:cNvPr id="370" name=""/>
            <p:cNvSpPr/>
            <p:nvPr/>
          </p:nvSpPr>
          <p:spPr>
            <a:xfrm>
              <a:off x="6467040" y="1576440"/>
              <a:ext cx="707400" cy="45396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451560" y="1694160"/>
              <a:ext cx="73044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Buzz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2" name=""/>
          <p:cNvSpPr/>
          <p:nvPr/>
        </p:nvSpPr>
        <p:spPr>
          <a:xfrm>
            <a:off x="2347920" y="3668760"/>
            <a:ext cx="0" cy="403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120760" y="4095720"/>
            <a:ext cx="471600" cy="51120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004840" y="4170240"/>
            <a:ext cx="68292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Flas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16M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2976480" y="4083120"/>
            <a:ext cx="471600" cy="51120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60560" y="4157640"/>
            <a:ext cx="68292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R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2Mb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1840" y="3676680"/>
            <a:ext cx="0" cy="403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648240" y="4081320"/>
            <a:ext cx="790560" cy="493920"/>
          </a:xfrm>
          <a:prstGeom prst="rect">
            <a:avLst/>
          </a:prstGeom>
          <a:solidFill>
            <a:srgbClr val="ffcc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040280" y="3676680"/>
            <a:ext cx="0" cy="403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646800" y="4145040"/>
            <a:ext cx="8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808080"/>
                </a:solidFill>
                <a:latin typeface="Times New Roman"/>
              </a:rPr>
              <a:t>CalpysoL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808080"/>
                </a:solidFill>
                <a:latin typeface="Times New Roman"/>
              </a:rPr>
              <a:t>G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1469520" y="3687840"/>
            <a:ext cx="9720" cy="10764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H="1" flipV="1">
            <a:off x="624960" y="4754520"/>
            <a:ext cx="1901880" cy="144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85920" y="4110120"/>
            <a:ext cx="471240" cy="51120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0000" y="4184640"/>
            <a:ext cx="6825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CAR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11280" y="3703680"/>
            <a:ext cx="0" cy="403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508120" y="4772160"/>
            <a:ext cx="0" cy="403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738440" y="4772160"/>
            <a:ext cx="0" cy="41256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89080" y="4781520"/>
            <a:ext cx="0" cy="403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41520" y="4772160"/>
            <a:ext cx="0" cy="40320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125800" y="5186520"/>
            <a:ext cx="771480" cy="388800"/>
          </a:xfrm>
          <a:prstGeom prst="rect">
            <a:avLst/>
          </a:prstGeom>
          <a:solidFill>
            <a:srgbClr val="ffcc99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131920" y="5183280"/>
            <a:ext cx="804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808080"/>
                </a:solidFill>
                <a:latin typeface="Times New Roman"/>
              </a:rPr>
              <a:t>CalpysoLi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808080"/>
                </a:solidFill>
                <a:latin typeface="Times New Roman"/>
              </a:rPr>
              <a:t>G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1000" y="5207040"/>
            <a:ext cx="471240" cy="3207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395360" y="5272200"/>
            <a:ext cx="68256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LC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942840" y="5197320"/>
            <a:ext cx="490680" cy="771840"/>
          </a:xfrm>
          <a:prstGeom prst="rect">
            <a:avLst/>
          </a:prstGeom>
          <a:solidFill>
            <a:srgbClr val="ff99cc"/>
          </a:solidFill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914400" y="5181480"/>
            <a:ext cx="64296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RI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eria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Interf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upply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volt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36600" y="5195880"/>
            <a:ext cx="566640" cy="4557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287280" y="5261040"/>
            <a:ext cx="682560" cy="5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Analo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Times New Roman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7219800" y="1576440"/>
            <a:ext cx="789120" cy="457200"/>
            <a:chOff x="7219800" y="1576440"/>
            <a:chExt cx="789120" cy="457200"/>
          </a:xfrm>
        </p:grpSpPr>
        <p:sp>
          <p:nvSpPr>
            <p:cNvPr id="399" name=""/>
            <p:cNvSpPr/>
            <p:nvPr/>
          </p:nvSpPr>
          <p:spPr>
            <a:xfrm>
              <a:off x="7250400" y="1576440"/>
              <a:ext cx="700560" cy="45720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219800" y="1700280"/>
              <a:ext cx="789120" cy="2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808080"/>
                  </a:solidFill>
                  <a:latin typeface="Times New Roman"/>
                </a:rPr>
                <a:t>Vibrato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8410680" y="1050840"/>
            <a:ext cx="0" cy="527040"/>
          </a:xfrm>
          <a:prstGeom prst="line">
            <a:avLst/>
          </a:prstGeom>
          <a:ln w="2232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074080" y="1593720"/>
            <a:ext cx="714240" cy="1638360"/>
          </a:xfrm>
          <a:prstGeom prst="rect">
            <a:avLst/>
          </a:pr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048520" y="1657440"/>
            <a:ext cx="777960" cy="15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Keyp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LC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Ba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8080"/>
                </a:solidFill>
                <a:latin typeface="Times New Roman"/>
              </a:rPr>
              <a:t>ligh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643720" y="3100320"/>
            <a:ext cx="836280" cy="2637000"/>
            <a:chOff x="5643720" y="3100320"/>
            <a:chExt cx="836280" cy="2637000"/>
          </a:xfrm>
        </p:grpSpPr>
        <p:sp>
          <p:nvSpPr>
            <p:cNvPr id="405" name=""/>
            <p:cNvSpPr/>
            <p:nvPr/>
          </p:nvSpPr>
          <p:spPr>
            <a:xfrm>
              <a:off x="6029280" y="3100320"/>
              <a:ext cx="0" cy="49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5778360" y="3621240"/>
              <a:ext cx="512640" cy="6937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683320" y="3714840"/>
              <a:ext cx="682200" cy="57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VR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2.8V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60m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27840" y="4330800"/>
              <a:ext cx="0" cy="49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702400" y="4842000"/>
              <a:ext cx="685440" cy="895320"/>
            </a:xfrm>
            <a:prstGeom prst="rect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643720" y="4916520"/>
              <a:ext cx="836280" cy="75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BJ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f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T/R switch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7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 </a:t>
              </a:r>
              <a:r>
                <a:rPr b="0" lang="en-US" sz="1000" spc="-1" strike="noStrike">
                  <a:solidFill>
                    <a:srgbClr val="808080"/>
                  </a:solidFill>
                  <a:latin typeface="Times New Roman"/>
                </a:rPr>
                <a:t>control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FB2F8-1D20-4FC3-A72D-06785723100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2:28:55Z</dcterms:created>
  <dc:creator>teddy_chou</dc:creator>
  <dc:description/>
  <dc:language>en-US</dc:language>
  <cp:lastModifiedBy>alexander bühler</cp:lastModifiedBy>
  <dcterms:modified xsi:type="dcterms:W3CDTF">2004-07-07T07:58:18Z</dcterms:modified>
  <cp:revision>38</cp:revision>
  <dc:subject/>
  <dc:title>PowerPoint 簡報</dc:title>
</cp:coreProperties>
</file>