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1017-0678-4452-8FC0-706C2AF80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669A-82CE-46A2-A773-FD3945033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B743-8FB6-47A6-BD78-24C253CCF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DCC9-87A1-4837-AF54-184CEFA13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628C-8E77-457E-864B-CD0DB7D94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A2E5-B707-430F-9EDC-9951D2544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8285-5B55-4459-8B1B-DE6AA419D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048F-F71A-4B82-A11B-23EB3ED17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D880-9C45-4307-A5B2-F04C85E30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9B4D-6AB6-4A22-9D05-6C1BDBE13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569C-899D-4D90-839C-B9062C1C5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31BF-3A73-40A2-BC0C-944C7E94A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mpal_logo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pic>
        <p:nvPicPr>
          <p:cNvPr id="4" name="title2_365" descr=""/>
          <p:cNvPicPr/>
          <p:nvPr/>
        </p:nvPicPr>
        <p:blipFill>
          <a:blip r:embed="rId4"/>
          <a:stretch/>
        </p:blipFill>
        <p:spPr>
          <a:xfrm>
            <a:off x="0" y="6224760"/>
            <a:ext cx="9144000" cy="63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A8B0-5552-4109-9AFC-123838943915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7000" y="144360"/>
            <a:ext cx="129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HEAD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362320"/>
            <a:ext cx="66294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SimSun"/>
              </a:rPr>
              <a:t>C115 RF Trouble Shoo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esent by Allan_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26AE-33D6-4067-AA56-FD461205CB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51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55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" name=""/>
          <p:cNvSpPr/>
          <p:nvPr/>
        </p:nvSpPr>
        <p:spPr>
          <a:xfrm>
            <a:off x="1752480" y="152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TR switch) in DCS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D2G1" descr=""/>
          <p:cNvPicPr/>
          <p:nvPr/>
        </p:nvPicPr>
        <p:blipFill>
          <a:blip r:embed="rId5"/>
          <a:stretch/>
        </p:blipFill>
        <p:spPr>
          <a:xfrm>
            <a:off x="228600" y="2819520"/>
            <a:ext cx="39639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419720" y="2971800"/>
          <a:ext cx="4572000" cy="295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9720" y="2971800"/>
                    <a:ext cx="45720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029200" y="4114800"/>
            <a:ext cx="13032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276720"/>
            <a:ext cx="7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V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7339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648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A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411480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212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99:1747.6MHz, cell power:-60dBm, MS_TX_level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oscilloscope probe to touch U17 Pin5(R85)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505320"/>
            <a:ext cx="121896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17F7-3D35-49E4-8416-5FB2370BA6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47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"/>
          <p:cNvSpPr/>
          <p:nvPr/>
        </p:nvSpPr>
        <p:spPr>
          <a:xfrm>
            <a:off x="1295280" y="990720"/>
            <a:ext cx="617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F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ranceiver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 (I/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(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(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(TR swi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3FEC-0CF9-437C-933A-0F4ED093C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52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" name=""/>
          <p:cNvSpPr/>
          <p:nvPr/>
        </p:nvSpPr>
        <p:spPr>
          <a:xfrm>
            <a:off x="1983960" y="1522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RF Tranceiv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85800"/>
            <a:ext cx="8991360" cy="5486040"/>
            <a:chOff x="0" y="685800"/>
            <a:chExt cx="8991360" cy="54860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685800"/>
              <a:ext cx="899136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052120" y="3808440"/>
              <a:ext cx="0" cy="135036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358640" y="5159160"/>
              <a:ext cx="669312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8960" y="1796760"/>
              <a:ext cx="62312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89760" y="2373840"/>
              <a:ext cx="3692520" cy="194076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51360" y="296640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 Black"/>
                  <a:ea typeface="Arial Unicode MS"/>
                </a:rPr>
                <a:t>P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2800" y="937080"/>
              <a:ext cx="353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Transmit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2800" y="5498640"/>
              <a:ext cx="353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Receiver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09CE-992F-4C71-9F4D-400311018E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66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" name=""/>
          <p:cNvSpPr/>
          <p:nvPr/>
        </p:nvSpPr>
        <p:spPr>
          <a:xfrm>
            <a:off x="76212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 (I/Q) in G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76212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, cell power:-60dBm, MS_TX_level 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. Use oscilloscope probe to touch </a:t>
            </a:r>
            <a:r>
              <a:rPr b="0" lang="zh-TW" sz="1800" spc="-1" strike="noStrike">
                <a:solidFill>
                  <a:srgbClr val="ff3300"/>
                </a:solidFill>
                <a:latin typeface="Arial"/>
              </a:rPr>
              <a:t>red poin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and you can find that(For     Example:The TXIP sig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3048120"/>
          <a:ext cx="4280040" cy="22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4280040" cy="22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D2G11" descr=""/>
          <p:cNvPicPr/>
          <p:nvPr/>
        </p:nvPicPr>
        <p:blipFill>
          <a:blip r:embed="rId5"/>
          <a:stretch/>
        </p:blipFill>
        <p:spPr>
          <a:xfrm>
            <a:off x="4800600" y="2590920"/>
            <a:ext cx="4114800" cy="3084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01920" y="41022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95800" y="4311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01920" y="4743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95800" y="48895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7760" y="293364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b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29480" y="3505320"/>
            <a:ext cx="137160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79DD-150E-4A25-88AC-7442DF2BF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82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"/>
          <p:cNvSpPr/>
          <p:nvPr/>
        </p:nvSpPr>
        <p:spPr>
          <a:xfrm>
            <a:off x="76212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 (I/Q) in DCS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858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99:1747.6MHz, cell power:-60dBm, MS_TX_level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.Use oscilloscope probe to touch </a:t>
            </a:r>
            <a:r>
              <a:rPr b="0" lang="zh-TW" sz="1800" spc="-1" strike="noStrike">
                <a:solidFill>
                  <a:srgbClr val="ff3300"/>
                </a:solidFill>
                <a:latin typeface="Arial"/>
              </a:rPr>
              <a:t>red poin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and you can find wave(For     Example:The TXIP sig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971800"/>
          <a:ext cx="4280040" cy="22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28004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D2G11" descr=""/>
          <p:cNvPicPr/>
          <p:nvPr/>
        </p:nvPicPr>
        <p:blipFill>
          <a:blip r:embed="rId5"/>
          <a:stretch/>
        </p:blipFill>
        <p:spPr>
          <a:xfrm>
            <a:off x="4800600" y="2514600"/>
            <a:ext cx="4114800" cy="3084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01920" y="402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95800" y="4235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01920" y="46674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95800" y="481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760" y="285768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b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29480" y="3429000"/>
            <a:ext cx="137160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3F2D-511B-4409-B353-FB5DFC24A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98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"/>
          <p:cNvSpPr/>
          <p:nvPr/>
        </p:nvSpPr>
        <p:spPr>
          <a:xfrm>
            <a:off x="2286000" y="152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LO) in G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85800"/>
            <a:ext cx="8991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(CH699:1747.6MHz), cell power:-60dBm, MS_TX_level : 5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spectrum probe to touch </a:t>
            </a:r>
            <a:r>
              <a:rPr b="0" lang="zh-TW" sz="1800" spc="-1" strike="noStrike">
                <a:solidFill>
                  <a:srgbClr val="ff3300"/>
                </a:solidFill>
                <a:latin typeface="Tahoma"/>
              </a:rPr>
              <a:t>red point ~ 5dBm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(CH=62_902.4MHz, RBW=VBW=200KHz, attenuation=20dB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TX signal1 : Use spectrum probe to touch </a:t>
            </a:r>
            <a:r>
              <a:rPr b="0" lang="zh-TW" sz="1800" spc="-1" strike="noStrike">
                <a:solidFill>
                  <a:srgbClr val="ff3300"/>
                </a:solidFill>
                <a:latin typeface="Tahoma"/>
              </a:rPr>
              <a:t>red point ~ 3dBm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(CH=699_1747.6MHz, RBW=VBW=200KHz, attenuation=20dB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99200" y="385776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6320" y="3382920"/>
            <a:ext cx="196920" cy="185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35268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b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81080" y="2971800"/>
          <a:ext cx="464832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971800"/>
                    <a:ext cx="4648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34120" y="384804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59320" y="5130720"/>
            <a:ext cx="13032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8693-1048-4044-A178-F5B59FCC5C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11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PA) in G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2514600"/>
          <a:ext cx="4724280" cy="32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472428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191120" y="260352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D2G" descr=""/>
          <p:cNvPicPr/>
          <p:nvPr/>
        </p:nvPicPr>
        <p:blipFill>
          <a:blip r:embed="rId5"/>
          <a:stretch/>
        </p:blipFill>
        <p:spPr>
          <a:xfrm>
            <a:off x="5256360" y="2666880"/>
            <a:ext cx="3887640" cy="291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5880" y="3352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(APC Wa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343400" y="2742840"/>
            <a:ext cx="1752480" cy="762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8580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, cell power:-60dBm, MS_TX_level: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TX signal1 : Use oscilloscope probe to touch R66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CE4C-5146-4150-B2E1-74605E6C1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23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" name=""/>
          <p:cNvSpPr/>
          <p:nvPr/>
        </p:nvSpPr>
        <p:spPr>
          <a:xfrm>
            <a:off x="2438280" y="152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PA) in DCS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68580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99:1747.6MHz, cell power:-60dBm, MS_TX_level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oscilloscope probe to touch R66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2286000"/>
          <a:ext cx="4724280" cy="32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0"/>
                    <a:ext cx="472428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191120" y="237492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D2G" descr=""/>
          <p:cNvPicPr/>
          <p:nvPr/>
        </p:nvPicPr>
        <p:blipFill>
          <a:blip r:embed="rId5"/>
          <a:stretch/>
        </p:blipFill>
        <p:spPr>
          <a:xfrm>
            <a:off x="5256360" y="2438280"/>
            <a:ext cx="3887640" cy="29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5880" y="3124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343400" y="2514240"/>
            <a:ext cx="1752480" cy="762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B7E8-FBF3-4605-BAC9-E89C95C3A5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35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8" name=""/>
          <p:cNvSpPr/>
          <p:nvPr/>
        </p:nvSpPr>
        <p:spPr>
          <a:xfrm>
            <a:off x="1828800" y="152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TR switch) in GSM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D2G1" descr=""/>
          <p:cNvPicPr/>
          <p:nvPr/>
        </p:nvPicPr>
        <p:blipFill>
          <a:blip r:embed="rId3"/>
          <a:stretch/>
        </p:blipFill>
        <p:spPr>
          <a:xfrm>
            <a:off x="5029200" y="2895480"/>
            <a:ext cx="39639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52280" y="2895480"/>
          <a:ext cx="4572000" cy="295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895480"/>
                    <a:ext cx="45720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24360" y="434340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4440" y="439416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2670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365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V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80988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A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315200" y="4190760"/>
            <a:ext cx="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76212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, cell power:-60dBm, MS_TX_level 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oscilloscope probe to touch U17 Pin8(R83)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6592-B68A-4944-B315-CAF8C3113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COMPAL</cp:lastModifiedBy>
  <dcterms:modified xsi:type="dcterms:W3CDTF">2004-03-30T06:03:58Z</dcterms:modified>
  <cp:revision>32</cp:revision>
  <dc:subject/>
  <dc:title>PowerPoint 簡報</dc:title>
</cp:coreProperties>
</file>