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640" y="14616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OROLA L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54840" y="640080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Service Engineeing &amp; 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27600" y="662940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Level 3 , Rev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11960" y="131760"/>
            <a:ext cx="1676520" cy="361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26920" y="189000"/>
            <a:ext cx="406440" cy="720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0169" r="46538" b="0"/>
          <a:stretch/>
        </p:blipFill>
        <p:spPr>
          <a:xfrm>
            <a:off x="457200" y="1382760"/>
            <a:ext cx="4114800" cy="471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29718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2 / L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1341360"/>
            <a:ext cx="2654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86360" cy="4371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81400" y="2421000"/>
            <a:ext cx="87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Upd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637000"/>
            <a:ext cx="3097440" cy="1655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5414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Inter Board to Board Conn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7091280" cy="399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5734080"/>
            <a:ext cx="1584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5473800" cy="307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708360" cy="33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160" y="47242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8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160" y="83664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ax RF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98520" y="83664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4880" y="83664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8880" y="83664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2 - Co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11600" y="544500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1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6160" y="450864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7240" y="566100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3800" y="155736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b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act P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61080" y="55897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3440" y="206676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160" y="3141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43280" y="4436640"/>
            <a:ext cx="14436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19640" y="4005360"/>
            <a:ext cx="36036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940360" y="3573360"/>
            <a:ext cx="360360" cy="194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1413000"/>
            <a:ext cx="503280" cy="57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1413000"/>
            <a:ext cx="28764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708360" y="1484280"/>
            <a:ext cx="503280" cy="1370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484280"/>
            <a:ext cx="93528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2060640"/>
            <a:ext cx="28728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2421000"/>
            <a:ext cx="115236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3645000"/>
            <a:ext cx="64800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547640" y="4797000"/>
            <a:ext cx="36036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26920" y="4365720"/>
            <a:ext cx="720720" cy="57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5240" y="5373720"/>
            <a:ext cx="13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14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24360" y="4437000"/>
            <a:ext cx="144360" cy="936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88000" y="4221000"/>
            <a:ext cx="144720" cy="64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9960" y="479736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40200" y="9810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1- M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51640" y="1628640"/>
            <a:ext cx="720720" cy="505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9960" y="544500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1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3716280"/>
            <a:ext cx="216000" cy="172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08480" y="4437000"/>
            <a:ext cx="12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8100720" y="2276280"/>
            <a:ext cx="142920" cy="21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7960" y="76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ax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125360"/>
            <a:ext cx="43200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12000" cy="304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6880" y="299736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14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7800" y="8366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70160" y="105264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8520" y="5084640"/>
            <a:ext cx="12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1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a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8880" y="522936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5440" y="907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763640" y="3933360"/>
            <a:ext cx="720720" cy="1150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1484280"/>
            <a:ext cx="21600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779640" y="1484280"/>
            <a:ext cx="43164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1484280"/>
            <a:ext cx="35856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3357720"/>
            <a:ext cx="72072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5229360"/>
            <a:ext cx="7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03640" y="4076640"/>
            <a:ext cx="360360" cy="1152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39840" y="9810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ck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D´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877080" y="1628640"/>
            <a:ext cx="129528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1960" y="13413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800 - 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131640" y="1773360"/>
            <a:ext cx="716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140000" y="4365360"/>
            <a:ext cx="43164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50640" y="9144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rget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447920"/>
            <a:ext cx="5181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who love technology…but are on a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ible people working to balance work, family and personal l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lieve technology represents ‘the good lif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laxed, comfortable, down-to-earth sty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9080" y="105264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ces between L2 and L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90520" y="2997360"/>
            <a:ext cx="275184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2 has no 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2400" y="1295280"/>
            <a:ext cx="7132680" cy="46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 Targe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H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ds/Mod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band 900/1800/1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3 x 49 x 10.9mm, 56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86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r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28 x 160 65K colour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CST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.77” viewable diag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0 mAh Li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350 mins (talk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380 hrs (standby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90792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0" y="9144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636560"/>
            <a:ext cx="5638680" cy="42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 Cla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handsfree speaker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h to Talk over cellular with G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able java apps, images &amp; ringt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Messaging with 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Village Instant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3 Ringt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RS Class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playback (MPEG4/H.26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10MB of end user embedd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mic Idle (Motorola/4th Pass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1360" y="9144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1413000"/>
            <a:ext cx="434016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owser:  MIB2.2 WAP 2.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WSP/HTTP1.1, WTCP/IP, xHTML Mobile profile, WCSS, Cookies, WTLS Class 2, TLS 1.0/SSL 3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ing: MMS, WV, EMS 5.0, 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2ME™ MIDP 2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Mini USB connector (E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PRS Class 10 (2U/4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ML Devi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deo playback (H.263-MPEG 4, .3GP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2 KHz polyphonic spe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M OMA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 Cla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0280" y="9144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ab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1272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hipsets /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ompared with E398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76520"/>
            <a:ext cx="75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3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U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Eagle – U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lgae – U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Nearly similar ATI Chip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Blue Tooth – U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67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/updated Circuits compared with E3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05756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 circuit (Camera, Display) (L2 has no Cam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las – U900 (with intregrated EMU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Inter Board to Boar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No TransFlash Memory Card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0000" y="1827360"/>
            <a:ext cx="6553080" cy="44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1628640"/>
            <a:ext cx="280836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ATI Circ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960" y="4365720"/>
            <a:ext cx="758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ontro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4653000"/>
            <a:ext cx="1548000" cy="250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1484280"/>
            <a:ext cx="99360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or L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Only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01080" y="2637000"/>
            <a:ext cx="71280" cy="647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4365720"/>
            <a:ext cx="576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1989000"/>
            <a:ext cx="57636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481560"/>
            <a:ext cx="18874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TI – Neptune 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omunication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4005360"/>
            <a:ext cx="2303640" cy="144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1844640"/>
            <a:ext cx="18874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Nptune – 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Comunication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205000"/>
            <a:ext cx="1655640" cy="73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Atlas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PCAP replacement)</a:t>
            </a: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1600200"/>
            <a:ext cx="3657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57280" y="1523880"/>
            <a:ext cx="6162840" cy="4800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280" y="3838680"/>
            <a:ext cx="1080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B / E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4114800"/>
            <a:ext cx="106704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50240" y="3533760"/>
            <a:ext cx="10965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LED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76760" y="3809880"/>
            <a:ext cx="144756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1:58:59Z</dcterms:created>
  <dc:creator>wfab610</dc:creator>
  <dc:description/>
  <dc:language>en-US</dc:language>
  <cp:lastModifiedBy>Michael Mauderer</cp:lastModifiedBy>
  <dcterms:modified xsi:type="dcterms:W3CDTF">2005-08-30T08:26:13Z</dcterms:modified>
  <cp:revision>13</cp:revision>
  <dc:subject/>
  <dc:title>Folie 1</dc:title>
</cp:coreProperties>
</file>