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EFDEA-BA86-4EA4-ADB6-2D65C128A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5E4E1-AEAE-4C95-9EEA-E9AE4F1F5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5494B-D04A-4114-91F2-E1EE4776D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B2D02-FD32-4EE9-9AD6-A62332E0D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DD86DD-02D8-47BD-8C42-567345A527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DBDD8-36C0-404E-AD9D-5E67444B0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E6AFE-D2F6-462D-BB59-92C1FF676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6A576-0837-44AC-8104-733B3A859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7FC68-7E6E-48A3-9C5D-0AEB7D887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6F0FB-924F-4C0E-BE7A-B96FE42F2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A6820-A5BE-45B0-9B41-941A52B08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907D7-095A-4820-A12D-3C693C8CB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6AA26-6D17-442C-8F2C-D37B5026C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D9E4D-72E1-4A9F-90B7-038B9629B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FD6A0-5BC5-4EBE-BF1B-B2A2EE4F8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6CB009-1711-40DC-8583-0704720BFB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688887-0A40-46CA-B42F-8ECB2F0DEC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B62F4-65E2-443E-A6F2-85FA36D2E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8EDF5-E8BF-4BAD-A4B6-202FE06AC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EFAC7-F8A6-4C9C-8C20-6FF1BB684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EABE9-C3B7-4088-B9C9-43457A930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1A079-01BB-47E3-97D3-549043D07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22A93-9E62-4FB2-B8C7-1455878C0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1B87D-9038-46E4-9F05-3CF687DD4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4CEF-86A1-4A64-AF5F-FFF3C7D814E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grpSp>
        <p:nvGrpSpPr>
          <p:cNvPr id="49" name=""/>
          <p:cNvGrpSpPr/>
          <p:nvPr/>
        </p:nvGrpSpPr>
        <p:grpSpPr>
          <a:xfrm>
            <a:off x="0" y="2438280"/>
            <a:ext cx="9009000" cy="1052640"/>
            <a:chOff x="0" y="2438280"/>
            <a:chExt cx="9009000" cy="1052640"/>
          </a:xfrm>
        </p:grpSpPr>
        <p:grpSp>
          <p:nvGrpSpPr>
            <p:cNvPr id="50" name=""/>
            <p:cNvGrpSpPr/>
            <p:nvPr/>
          </p:nvGrpSpPr>
          <p:grpSpPr>
            <a:xfrm>
              <a:off x="290520" y="2546280"/>
              <a:ext cx="711360" cy="474840"/>
              <a:chOff x="290520" y="2546280"/>
              <a:chExt cx="711360" cy="474840"/>
            </a:xfrm>
          </p:grpSpPr>
          <p:sp>
            <p:nvSpPr>
              <p:cNvPr id="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2968560"/>
              <a:ext cx="737640" cy="474840"/>
              <a:chOff x="414360" y="2968560"/>
              <a:chExt cx="737640" cy="474840"/>
            </a:xfrm>
          </p:grpSpPr>
          <p:sp>
            <p:nvSpPr>
              <p:cNvPr id="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14867-B7BD-4510-A75E-B0D351D0EC3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hyperlink" Target="http://compass.mot.com/go/mmiptt30" TargetMode="External"/><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ush-To-Talk</a:t>
            </a:r>
            <a:endParaRPr b="0" lang="en-US" sz="4400" spc="-1" strike="noStrike">
              <a:solidFill>
                <a:srgbClr val="333399"/>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definitions of PTT &amp; How to use PTT on Motorola phon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ost Savings</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atest benefits that wireless carriers enjoy from PTT is the network cost efficiencies that are realized in at least two ways.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the underlying IP-based network with half-duplex transmissions has the advantage of both requiring less bandwidth (e.g. network and facility savings)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oiding interconnection to the PSTN (e.g. savings against interconnection charg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3E277636-B475-4658-AB34-0B0DD1EEF7AB}" type="slidenum">
              <a:t>10</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o PTT</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normal cell phone call is full-duplex, meaning both parties can hear each other at the same time. PTT is half-duplex, meaning communication can only travel in one direction at any given momen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04F60736-9655-482F-8023-05DE0D935F82}" type="slidenum">
              <a:t>11</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200" spc="-1" strike="noStrike">
                <a:solidFill>
                  <a:srgbClr val="000000"/>
                </a:solidFill>
                <a:latin typeface="Tahoma"/>
              </a:rPr>
              <a:t>To control which person can speak and be heard, PTT requires the person speaking to press a button while talking and then release it when they are done. The listener then presses their button to respond. This is just like a WT</a:t>
            </a:r>
            <a:br>
              <a:rPr sz="3200"/>
            </a:b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022589B5-7949-4187-BFF2-DDF2CC877A05}" type="slidenum">
              <a:t>12</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 way is followed for Group talk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ly one member can be talking at an instant. Other members will be listening.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CFB4933B-EBAB-46E3-BB02-11053BD5E04F}" type="slidenum">
              <a:t>13</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to phones with PTT </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n2riniII, Malta, Royale, Kauai, Bintan/Lanai/Tioman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31556818-A52D-4A40-A792-E5C4FF235EA1}" type="slidenum">
              <a:t>14</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able PTT on Moto</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lect CSM from Idle Screen =&gt; Select Settings =&gt; Select PTT Settings </a:t>
            </a:r>
            <a:endParaRPr b="0" lang="en-US" sz="3600" spc="-1" strike="noStrike">
              <a:solidFill>
                <a:srgbClr val="000000"/>
              </a:solidFill>
              <a:latin typeface="Tahoma"/>
            </a:endParaRPr>
          </a:p>
          <a:p>
            <a:pPr lvl="2" marL="1143000" indent="-228600">
              <a:spcBef>
                <a:spcPts val="9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lect “PTT Service”</a:t>
            </a:r>
            <a:endParaRPr b="0" lang="en-US" sz="3600" spc="-1" strike="noStrike">
              <a:solidFill>
                <a:srgbClr val="000000"/>
              </a:solidFill>
              <a:latin typeface="Tahoma"/>
            </a:endParaRPr>
          </a:p>
          <a:p>
            <a:pPr lvl="3" marL="1600200" indent="-228600">
              <a:spcBef>
                <a:spcPts val="9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t it to “ON”</a:t>
            </a: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C0E4B5D7-730B-4A79-94C6-1D08A3AAC820}" type="slidenum">
              <a:t>15</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fig Moto PTT</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sh the PTT Butt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ect “PTT MENU” by pressing LS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roll down and select “PTT Setup”</a:t>
            </a:r>
            <a:endParaRPr b="0" lang="en-US" sz="32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GPRS Settings”</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PN” and set this to &lt;Network APN&gt;</a:t>
            </a:r>
            <a:endParaRPr b="0" lang="en-US" sz="20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User Name” and set this to &lt;Network User Name&gt;</a:t>
            </a:r>
            <a:endParaRPr b="0" lang="en-US" sz="20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Password” and set this to &lt;Network Password&gt;</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2D7255C8-77BB-45D6-B7E7-3C1F6D687AEA}" type="slidenum">
              <a:t>16</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elect “Server Settings”</a:t>
            </a:r>
            <a:endParaRPr b="0" lang="en-US" sz="40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ect “Server1” and set this to &lt;PTT Server IP Address&g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ve “Server2” field empty</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ve “DNS IP” field empty</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81DDF22D-E053-42B0-B85F-8A5E2103F6F9}" type="slidenum">
              <a:t>17</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registration</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fter powering up the phone, it will automatically attempt to register with PTT server, once the phone is attached to GPRS network. If registration with PTT server is successful, PTT Registration Icon (3rd icon from left at the top) will be displayed. </a:t>
            </a: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3CCCD5FF-8E56-42BF-B765-32C97F24C6A9}" type="slidenum">
              <a:t>18</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Applic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wer up the phone &amp; PTT is registered</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ss PTT button from Idle screen, PTT Menu with the following fields will be displayed</a:t>
            </a:r>
            <a:endParaRPr b="0" lang="en-US" sz="32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TT Contacts</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TT Groups</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TT Quick Group</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TT Setup</a:t>
            </a:r>
            <a:endParaRPr b="0" lang="en-US" sz="2800" spc="-1" strike="noStrike">
              <a:solidFill>
                <a:srgbClr val="000000"/>
              </a:solidFill>
              <a:latin typeface="Tahoma"/>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5910840D-4F83-4883-809D-DFE34F1A9F29}" type="slidenum">
              <a:t>19</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PTT ?</a:t>
            </a:r>
            <a:endParaRPr b="0" lang="en-US" sz="4400" spc="-1" strike="noStrike">
              <a:solidFill>
                <a:srgbClr val="333399"/>
              </a:solidFill>
              <a:latin typeface="Tahoma"/>
            </a:endParaRPr>
          </a:p>
        </p:txBody>
      </p:sp>
      <p:sp>
        <p:nvSpPr>
          <p:cNvPr id="103" name="PlaceHolder 2"/>
          <p:cNvSpPr>
            <a:spLocks noGrp="1"/>
          </p:cNvSpPr>
          <p:nvPr>
            <p:ph/>
          </p:nvPr>
        </p:nvSpPr>
        <p:spPr>
          <a:xfrm>
            <a:off x="456840" y="2017440"/>
            <a:ext cx="8497800" cy="438300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ush-To-Talk (PTT) is a two-way communication service that works like a "walkie talkie"</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TT functions as a Voice Over IP over GSM phones. i.e. a technology of transmitting voice as data packets over the air</a:t>
            </a:r>
            <a:br>
              <a:rPr sz="3600"/>
            </a:br>
            <a:r>
              <a:rPr b="0" lang="en-US" sz="3600" spc="-1" strike="noStrike">
                <a:solidFill>
                  <a:srgbClr val="000000"/>
                </a:solidFill>
                <a:latin typeface="Tahoma"/>
              </a:rPr>
              <a:t> </a:t>
            </a:r>
            <a:endParaRPr b="0" lang="en-US" sz="36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80004E06-4442-4C07-8E3B-40E49C9540FC}" type="slidenum">
              <a:t>2</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Contact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ialog shows the list of Contacts available just like phonebook</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ence status icons will be present in front of the individual conta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lighting a contact &amp; the Left soft key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ERT indicates that the CONTACT which is highlighted is onlin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RESH indicates that the CONTACT which is highlighted is offlin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AEAA30A7-D319-4C0E-9F62-68AB5A54C888}" type="slidenum">
              <a:t>20</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Group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ialog shows the list of Groups available just like phonebook</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ence status icons will be present in front of the individual conta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lighting a contact &amp; the Left soft key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 indicates that the CONTACT which is highlighted is onlin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RESH indicates that the CONTACT which is highlighted is offlin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C7C3AF57-1514-477C-87E9-399269703477}" type="slidenum">
              <a:t>21</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SM in PTT Appln.</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cts &amp; Groups CSM has the list of operations that can be performed over a highlighted contact or group</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rations that can be performed over a contacts are </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D</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DIT</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LETE</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LOCK</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nline Alert</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iew</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F594970F-FBFB-4D7F-A164-7E3E1CE215FC}" type="slidenum">
              <a:t>22</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rations that can be performed over a Group are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D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ET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nline Aler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iew</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E7A168D1-5356-4C8E-A261-AAD747242196}" type="slidenum">
              <a:t>23</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ons – How To</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DD</a:t>
            </a:r>
            <a:endParaRPr b="0" lang="en-US" sz="2800" spc="-1" strike="noStrike">
              <a:solidFill>
                <a:srgbClr val="000000"/>
              </a:solidFill>
              <a:latin typeface="Tahoma"/>
            </a:endParaRPr>
          </a:p>
          <a:p>
            <a:pPr lvl="1" marL="727920" indent="-2800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s PTT button =&gt; PTT Menu =&gt; PTT Contacts/Groups =&gt; Press the CSM =&gt;Select ADD</a:t>
            </a:r>
            <a:br>
              <a:rPr sz="2400"/>
            </a:br>
            <a:r>
              <a:rPr b="0" lang="en-US" sz="2400" spc="-1" strike="noStrike">
                <a:solidFill>
                  <a:srgbClr val="000000"/>
                </a:solidFill>
                <a:latin typeface="Tahoma"/>
              </a:rPr>
              <a:t>Enter the NAME and PHONE NUMBER of the contact and press LSK (DONE). This shall add the contact into the CONTACT LIST</a:t>
            </a:r>
            <a:endParaRPr b="0" lang="en-US" sz="2400" spc="-1" strike="noStrike">
              <a:solidFill>
                <a:srgbClr val="000000"/>
              </a:solidFill>
              <a:latin typeface="Tahoma"/>
            </a:endParaRPr>
          </a:p>
          <a:p>
            <a:pPr lvl="1" marL="727920" indent="-2800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ress PTT button =&gt; Press CSM =&gt; PTT Groups =&gt; CSM=&gt;Create New Group. Select “Name” option to add name for group. Select “Members” to add members to group. Members to group can be only added from list of contacts present in contact list. Press DONE LSK to confirm creation of group.</a:t>
            </a:r>
            <a:endParaRPr b="0" lang="en-US" sz="2400" spc="-1" strike="noStrike">
              <a:solidFill>
                <a:srgbClr val="000000"/>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C4E107CF-A7EF-4034-AB39-42E19D7D8D7A}" type="slidenum">
              <a:t>24</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ET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s PTT button =&gt; PTT Menu =&gt; From the PTT CONTACTS list, highlight the contact =&gt; Press CSM =&gt;Select DELETE This shall delete the contact from the CONTACT LIST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s PTT button =&gt; PTT Menu =&gt; PTT Groups =&gt; select group to be deleted, press CSM, select “Delete” option to delete selected group</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EA92AC1F-03B4-4018-B26C-9E25FABEFD26}" type="slidenum">
              <a:t>25</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DIT</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s PTT button =&gt; PTT Menu =&gt; From the PTT CONTACTS list, highlight the contact =&gt; Press CSM =&gt;Select EDIT</a:t>
            </a:r>
            <a:br>
              <a:rPr sz="2800"/>
            </a:br>
            <a:r>
              <a:rPr b="0" lang="en-US" sz="2800" spc="-1" strike="noStrike">
                <a:solidFill>
                  <a:srgbClr val="000000"/>
                </a:solidFill>
                <a:latin typeface="Tahoma"/>
              </a:rPr>
              <a:t>This allows to change the name of the contact.</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IT Group is not supported </a:t>
            </a:r>
            <a:br>
              <a:rPr sz="2800"/>
            </a:b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8C8DC251-053B-47A9-938E-ECCE62D015D9}" type="slidenum">
              <a:t>26</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LOCK</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 Contact provides  the option to Block the contact while creation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IT Contact provides the option to modify Block oper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s cannot be blocked</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AAD15EF6-26E5-4341-86EB-D6465C8697C9}" type="slidenum">
              <a:t>27</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nline Alert</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be set only for a Contact/Group who is offline. For offline contact, press CSM, second item is “Enable Alert to Online”, press “Select” RSK to set online. For setting Online Alert tone, Press PTT button =&gt; Press CSM =&gt; Scroll down and select “PTT Setup” =&gt; Select “PTT Personalize” =&gt;Select “Set Online Alert Tone” to either ON or OFF.</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C11B62DD-14C6-4F82-ACB3-C4F29E6C6D9E}" type="slidenum">
              <a:t>28</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iew Contact</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s PTT button =&gt; PTT Menu =&gt; PTT Contacts =&gt; select a contact =&gt;Press CSM=&gt;Select VIEW</a:t>
            </a:r>
            <a:br>
              <a:rPr sz="2800"/>
            </a:br>
            <a:r>
              <a:rPr b="0" lang="en-US" sz="2800" spc="-1" strike="noStrike">
                <a:solidFill>
                  <a:srgbClr val="000000"/>
                </a:solidFill>
                <a:latin typeface="Tahoma"/>
              </a:rPr>
              <a:t>This displays phone number/Online alert status &amp; Block/Unblock status</a:t>
            </a:r>
            <a:br>
              <a:rPr sz="2800"/>
            </a:br>
            <a:r>
              <a:rPr b="0" lang="en-US" sz="2800" spc="-1" strike="noStrike">
                <a:solidFill>
                  <a:srgbClr val="000000"/>
                </a:solidFill>
                <a:latin typeface="Tahoma"/>
              </a:rPr>
              <a:t>Online alert indicates that whenever a particular contact becomes online, depending on online alert tone settings, corresponding tone will be played.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B88E7C25-C829-4280-B9A3-C0E2F7A948B1}" type="slidenum">
              <a:t>29</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normal cell phone call is full-duplex, meaning both parties can hear each other at the same time. PTT is half-duplex, meaning communication can only travel in one direction at any given momen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111B8158-83D0-4739-94BC-AE9C377D61D8}" type="slidenum">
              <a:t>3</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iew Group</a:t>
            </a:r>
            <a:endParaRPr b="0" lang="en-US" sz="32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s PTT button =&gt; PTT Menu =&gt; PTT Groups =&gt; select a group =&gt;Press CSM=&gt;Select VIEW</a:t>
            </a:r>
            <a:br>
              <a:rPr sz="2800"/>
            </a:br>
            <a:r>
              <a:rPr b="0" lang="en-US" sz="2800" spc="-1" strike="noStrike">
                <a:solidFill>
                  <a:srgbClr val="000000"/>
                </a:solidFill>
                <a:latin typeface="Tahoma"/>
              </a:rPr>
              <a:t>This displays Group name/Online alert status &amp; Online alert indicates that whenever a particular contact becomes online, depending on online alert tone settings, corresponding tone will be played</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AFC7178A-DDBE-4F74-8476-70BF6FB3BDAE}" type="slidenum">
              <a:t>30</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equently Used</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ress CSM from PTT Contacts/Groups select “Frequently Used” option, this will result in contacts and groups being sorted based on the number of times PTT calls have been made to a particular contact. The contact to which most PTT calls made shall be at the top of the lis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9E529B88-9784-48EF-8FB3-11250D2B4241}" type="slidenum">
              <a:t>31</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resh list</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ss CSM from PTT Contacts/Groups =&gt;Select REFRESH LIST</a:t>
            </a:r>
            <a:br>
              <a:rPr sz="3200"/>
            </a:br>
            <a:r>
              <a:rPr b="0" lang="en-US" sz="3200" spc="-1" strike="noStrike">
                <a:solidFill>
                  <a:srgbClr val="000000"/>
                </a:solidFill>
                <a:latin typeface="Tahoma"/>
              </a:rPr>
              <a:t>This shall update the status (ONLINE/OFFLINE) of the contacts in the Contacts/Groups LIS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F8FB6585-F928-4531-89FA-5DEE4B82F84C}" type="slidenum">
              <a:t>32</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Calling</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TT calling is similar to voice calling</a:t>
            </a:r>
            <a:endParaRPr b="0" lang="en-US" sz="3600" spc="-1" strike="noStrike">
              <a:solidFill>
                <a:srgbClr val="000000"/>
              </a:solidFill>
              <a:latin typeface="Tahoma"/>
            </a:endParaRPr>
          </a:p>
          <a:p>
            <a:pPr marL="335880" indent="-3358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stead of SEND key dedicated PTT key has to be pressed</a:t>
            </a:r>
            <a:endParaRPr b="0" lang="en-US" sz="3600" spc="-1" strike="noStrike">
              <a:solidFill>
                <a:srgbClr val="000000"/>
              </a:solidFill>
              <a:latin typeface="Tahoma"/>
            </a:endParaRPr>
          </a:p>
          <a:p>
            <a:pPr marL="335880" indent="-3358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ighlight a PTT Contact or group &amp; pressing PTT button will make a PTT call</a:t>
            </a:r>
            <a:endParaRPr b="0" lang="en-US" sz="3600" spc="-1" strike="noStrike">
              <a:solidFill>
                <a:srgbClr val="000000"/>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27122505-BCA2-4B00-928E-D7121031D517}" type="slidenum">
              <a:t>33</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Alert</a:t>
            </a: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Highlight a contact in the Contact list &amp; see the RSK as ALERT if the contact is online</a:t>
            </a:r>
            <a:endParaRPr b="0" lang="en-US" sz="3000" spc="-1" strike="noStrike">
              <a:solidFill>
                <a:srgbClr val="000000"/>
              </a:solidFill>
              <a:latin typeface="Tahoma"/>
            </a:endParaRPr>
          </a:p>
          <a:p>
            <a:pPr marL="322200" indent="-32220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ressing ALERT Alerts the user at the other end like the initiator wants to talk</a:t>
            </a:r>
            <a:endParaRPr b="0" lang="en-US" sz="3000" spc="-1" strike="noStrike">
              <a:solidFill>
                <a:srgbClr val="000000"/>
              </a:solidFill>
              <a:latin typeface="Tahoma"/>
            </a:endParaRPr>
          </a:p>
          <a:p>
            <a:pPr marL="322200" indent="-32220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ere is no Auto-Accept for PTT Alert. The user always gets an Alert dialog irrespective of the PTT personalize settings </a:t>
            </a:r>
            <a:endParaRPr b="0" lang="en-US" sz="30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52D939CE-98B4-4D7C-AD4A-39767A338148}" type="slidenum">
              <a:t>34</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o- One-2- One Call</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TT call Initiating side: Push the PTT Button =&gt; From the PTT CONTACTS list, scroll down to the Contact to which the PTT call is to be made =&gt; Press the RSK (ALERT) or PTT button.</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TT call Receiving side: The Contact will receive an alert. Upon pressing the RSK (ANSWER), the PTT call gets connected.</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DA4126DD-0A28-403A-945B-4068FE05D2CE}" type="slidenum">
              <a:t>35</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w, either of the contact can take the floor (TALK) by pressing and holding the PTT button while they are talking. When the PTT button is pressed while still in the LISTENING mode, a beep sound is played which indicates that the FLOOR (Other side is still talking) is still taken by other side.</a:t>
            </a:r>
            <a:br>
              <a:rPr sz="3200"/>
            </a:b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3595FD96-6F53-4294-82C1-97097234CBE2}" type="slidenum">
              <a:t>36</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o- PTT Group Call</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kinds of Group Calls</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stant Group Call</a:t>
            </a:r>
            <a:endParaRPr b="0" lang="en-US" sz="28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s PTT button =&gt; Press CSM =&gt; Scroll down and select “PTT Groups” =&gt;Highlight a Group =&gt;Press the PTT button</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the receiving side, the Contact will receive an alert. Upon pressing the RSK (ANSWER), the PTT call gets connected.</a:t>
            </a:r>
            <a:br>
              <a:rPr sz="2400"/>
            </a:b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8F512182-6181-4CC4-9BF1-1F96D6F274D6}" type="slidenum">
              <a:t>37</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Quick/Adhoc Group Call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 to PTT Contacts =&gt; Press CSM =&gt; select Quick Group =&gt; randomly select desired PTT Contacts =&gt; press PTT butt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the receiving side, the Contact will receive an alert. Upon pressing the RSK (ANSWER), the PTT call gets connected.</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1E018137-8534-4368-ACFD-0B113C43C90B}" type="slidenum">
              <a:t>38</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 (Group Calls)</a:t>
            </a: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all the users accept the call, the call is connected. Any user can take the FLOOR (talk) and the rest of the users shall hear the voice. Any user can disconnect from the group call by pressing RSK (EXIT). When the PTT group call initiator presses RSK (EXIT) or the END button, the group call ends.</a:t>
            </a: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CF7039D8-CB13-44EF-A8DD-E600AC36B488}" type="slidenum">
              <a:t>39</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t>
            </a:r>
            <a:r>
              <a:rPr b="0" lang="en-US" sz="3600" spc="-1" strike="noStrike">
                <a:solidFill>
                  <a:srgbClr val="000000"/>
                </a:solidFill>
                <a:latin typeface="Tahoma"/>
              </a:rPr>
              <a:t>Walkie Talkie” serves for a few hundred meters. Since PTT is over GSM it’s coverage is extensible to GSM network coverage</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805C07B3-A891-4E8A-9BBF-7806ACAEE5C3}" type="slidenum">
              <a:t>4</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endParaRPr b="0" lang="en-US" sz="4400" spc="-1" strike="noStrike">
              <a:solidFill>
                <a:srgbClr val="333399"/>
              </a:solidFill>
              <a:latin typeface="Tahoma"/>
            </a:endParaRPr>
          </a:p>
        </p:txBody>
      </p:sp>
      <p:sp>
        <p:nvSpPr>
          <p:cNvPr id="1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imes New Roman"/>
              </a:rPr>
              <a:t>PTT Individual Calls can be made from </a:t>
            </a:r>
            <a:endParaRPr b="0" lang="en-US" sz="2600" spc="-1" strike="noStrike">
              <a:solidFill>
                <a:srgbClr val="000000"/>
              </a:solidFill>
              <a:latin typeface="Tahoma"/>
            </a:endParaRPr>
          </a:p>
          <a:p>
            <a:pPr lvl="1" marL="713160" indent="-27432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Phonebook</a:t>
            </a:r>
            <a:r>
              <a:rPr b="0" lang="en-US" sz="2600" spc="-1" strike="noStrike">
                <a:solidFill>
                  <a:srgbClr val="000000"/>
                </a:solidFill>
                <a:latin typeface="Tahoma"/>
              </a:rPr>
              <a:t> </a:t>
            </a:r>
            <a:endParaRPr b="0" lang="en-US" sz="2600" spc="-1" strike="noStrike">
              <a:solidFill>
                <a:srgbClr val="000000"/>
              </a:solidFill>
              <a:latin typeface="Tahoma"/>
            </a:endParaRPr>
          </a:p>
          <a:p>
            <a:pPr lvl="1" marL="713160" indent="-27432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ent calls</a:t>
            </a:r>
            <a:endParaRPr b="0" lang="en-US" sz="2600" spc="-1" strike="noStrike">
              <a:solidFill>
                <a:srgbClr val="000000"/>
              </a:solidFill>
              <a:latin typeface="Tahoma"/>
            </a:endParaRPr>
          </a:p>
          <a:p>
            <a:pPr lvl="1" marL="713160" indent="-27432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tepad</a:t>
            </a:r>
            <a:endParaRPr b="0" lang="en-US" sz="2600" spc="-1" strike="noStrike">
              <a:solidFill>
                <a:srgbClr val="000000"/>
              </a:solidFill>
              <a:latin typeface="Tahoma"/>
            </a:endParaRPr>
          </a:p>
          <a:p>
            <a:pPr lvl="1" marL="713160" indent="-27432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umber entry from idle screen</a:t>
            </a:r>
            <a:endParaRPr b="0" lang="en-US" sz="2600" spc="-1" strike="noStrike">
              <a:solidFill>
                <a:srgbClr val="000000"/>
              </a:solidFill>
              <a:latin typeface="Tahoma"/>
            </a:endParaRPr>
          </a:p>
          <a:p>
            <a:pPr lvl="1" marL="713160" indent="-27432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nd also from the PTT Contacts</a:t>
            </a:r>
            <a:endParaRPr b="0" lang="en-US" sz="2600" spc="-1" strike="noStrike">
              <a:solidFill>
                <a:srgbClr val="000000"/>
              </a:solidFill>
              <a:latin typeface="Tahoma"/>
            </a:endParaRPr>
          </a:p>
          <a:p>
            <a:pPr marL="329040" indent="-32904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Instant Group Calls  can be made only from PTT Groups</a:t>
            </a:r>
            <a:endParaRPr b="0" lang="en-US" sz="2600" spc="-1" strike="noStrike">
              <a:solidFill>
                <a:srgbClr val="000000"/>
              </a:solidFill>
              <a:latin typeface="Tahoma"/>
            </a:endParaRPr>
          </a:p>
          <a:p>
            <a:pPr marL="329040" indent="-32904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Quick Group calls can be made only from PTT Contacts</a:t>
            </a:r>
            <a:endParaRPr b="0" lang="en-US" sz="26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0DA3E6F2-DCCA-4C92-ABB9-46AFA4A5525E}" type="slidenum">
              <a:t>40</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on CLI</a:t>
            </a: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sing PTT button on CLI will launch PTT Applic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TT Individual &amp; Instant Group Call can be made by pressing against the contact displayed in the CLI by pressing PTT button agai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ick Group Call cannot be made from CLI</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mshell open &amp; close does not ends a PTT Call</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2C8016CA-A826-4E05-9911-B95943FF004C}" type="slidenum">
              <a:t>41</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In-Call</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 SPEAKER to ON/OFF during a PTT call </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le the PTT call is connected, press the RSK (SPEAKER) to change the Speaker functionality to ON/OFF </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D Call</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le the PTT call is connected, pressing the END key or EXIT LSK shall end the PTT call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2AD8E65B-75EE-4A94-BF35-B3C6F0B0AEF4}" type="slidenum">
              <a:t>42</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Personalize</a:t>
            </a:r>
            <a:endParaRPr b="0" lang="en-US" sz="44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s PTT button =&gt; PTT Menu =&gt; PTT Setup =&gt; Select “PTT Personaliz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tion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TO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RT BY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Y ANSWER MODE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ne Volum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TT SPEAKER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Alert Ton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18B65515-7C43-4B5F-96E9-70BD901D5079}" type="slidenum">
              <a:t>43</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Open To”</a:t>
            </a:r>
            <a:r>
              <a:rPr b="0" lang="en-US" sz="4400" spc="-1" strike="noStrike">
                <a:solidFill>
                  <a:srgbClr val="333399"/>
                </a:solidFill>
                <a:latin typeface="Tahoma"/>
              </a:rPr>
              <a:t>	</a:t>
            </a:r>
            <a:r>
              <a:rPr b="0" lang="en-US" sz="4400" spc="-1" strike="noStrike">
                <a:solidFill>
                  <a:srgbClr val="333399"/>
                </a:solidFill>
                <a:latin typeface="Tahoma"/>
              </a:rPr>
              <a:t> Options</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sing PTT button from idle screen with the following option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cts</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plays “PTT Contacts” </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t Called Contact</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plays “PTT Contacts”  with last called contact on the top of the lis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TT Menu</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TT Main Menu will be displayed</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A0FB2CB4-549E-47B0-87F0-28418A86B663}" type="slidenum">
              <a:t>44</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Sort by” Options</a:t>
            </a: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TT Contacts or Groups gets sorted based on the following option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me</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cts are sorted by alphabetical order</a:t>
            </a:r>
            <a:endParaRPr b="0" lang="en-US" sz="24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cts are sorted based on the online status</a:t>
            </a:r>
            <a:endParaRPr b="0" lang="en-US" sz="24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cy</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cts are sorted based on frequency of calling.</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6631376A-EE7F-42D2-BFC4-52456A9A5F8D}" type="slidenum">
              <a:t>45</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MY ANSWER MODE”  Options</a:t>
            </a:r>
            <a:endParaRPr b="0" lang="en-US" sz="4400" spc="-1" strike="noStrike">
              <a:solidFill>
                <a:srgbClr val="333399"/>
              </a:solidFill>
              <a:latin typeface="Tahoma"/>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havior of phone for an incoming PTT call.</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al</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oming PTT call dialog with soft keys Ignore &amp; Answer will be displayed.</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o Accept</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oming PTT call gets connected automatically after a beep ton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NOT DISTURB </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option ignores any kind of PTT call made to the Phon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1D1697A6-6E02-4794-93D0-43EFDB8E7711}" type="slidenum">
              <a:t>46</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ne Volume</a:t>
            </a:r>
            <a:endParaRPr b="0" lang="en-US" sz="4400" spc="-1" strike="noStrike">
              <a:solidFill>
                <a:srgbClr val="333399"/>
              </a:solidFill>
              <a:latin typeface="Tahoma"/>
            </a:endParaRPr>
          </a:p>
        </p:txBody>
      </p:sp>
      <p:sp>
        <p:nvSpPr>
          <p:cNvPr id="1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option displays a volume slider with a threshold ranging from 1 to 7</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option is similar to the volume slider  in a voice cal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alue set in this option controls the volume level during a PTT call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de volume keys can be used to increase &amp; decrease levels during a PTT Call</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D90B2EFA-6BB3-4F7F-9A8E-4653B0439C14}" type="slidenum">
              <a:t>47</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PTT Speaker” Options</a:t>
            </a:r>
            <a:endParaRPr b="0" lang="en-US" sz="4400" spc="-1" strike="noStrike">
              <a:solidFill>
                <a:srgbClr val="333399"/>
              </a:solidFill>
              <a:latin typeface="Tahoma"/>
            </a:endParaRPr>
          </a:p>
        </p:txBody>
      </p:sp>
      <p:sp>
        <p:nvSpPr>
          <p:cNvPr id="1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value will default the Speaker to either ON or OFF when a PTT call is connected</a:t>
            </a:r>
            <a:endParaRPr b="0" lang="en-US" sz="32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 The speaker shall be set to ON when a PTT call is connected</a:t>
            </a:r>
            <a:endParaRPr b="0" lang="en-US" sz="28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 – The speaker shall be set to OFF when a PTT call is connected</a:t>
            </a:r>
            <a:endParaRPr b="0" lang="en-US" sz="2800" spc="-1" strike="noStrike">
              <a:solidFill>
                <a:srgbClr val="000000"/>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0CDF5DC8-7E9E-438E-8D5F-C77E2D222296}" type="slidenum">
              <a:t>48</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Online Alert Tone” Options</a:t>
            </a:r>
            <a:endParaRPr b="0" lang="en-US" sz="44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ys tone when Online Alert is enabled for a contact or group &amp; the contact comes online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ff</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n’t plays tone when Online Alert is enabled</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371DF0C6-2763-4F52-88CD-5EBFCDE1129B}" type="slidenum">
              <a:t>49</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Combining aspects of cellular mobile communications, presence detection, and walkie-talkie style communications, push to talk provides end-users with the ability to quickly find one another and engage in brief, burst-oriented style communication</a:t>
            </a:r>
            <a:endParaRPr b="0" lang="en-US" sz="3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81C1BDE1-D704-4C2F-9BA2-6EC775083369}" type="slidenum">
              <a:t>5</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Button Lock</a:t>
            </a:r>
            <a:endParaRPr b="0" lang="en-US" sz="44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le screen =&gt; CSM =&gt; settings =&gt; security =&gt; Select “Lock PTT Key”</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ting this option to ON shall disable the PTT button when the flip is closed thereby reducing the chance of any accidental PTT call initiation to other contacts. This functionality will become active after 1 minute (flexible) once flip is closed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ting this option to OFF shall enable the PTT button at all times. PTT calls can be made with the flip closed.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1F747E88-5E2F-47CF-9AE1-B3440F44F80F}" type="slidenum">
              <a:t>50</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endParaRPr b="0" lang="en-US" sz="4400" spc="-1" strike="noStrike">
              <a:solidFill>
                <a:srgbClr val="333399"/>
              </a:solidFill>
              <a:latin typeface="Tahoma"/>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ton Lock is not available for Candy bar phon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ypad lock locks the PTT button</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540C18B1-BF6F-4D54-8A8C-F5D2BB031979}" type="slidenum">
              <a:t>51</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Icons</a:t>
            </a:r>
            <a:endParaRPr b="0" lang="en-US" sz="4400" spc="-1" strike="noStrike">
              <a:solidFill>
                <a:srgbClr val="333399"/>
              </a:solidFill>
              <a:latin typeface="Tahoma"/>
            </a:endParaRPr>
          </a:p>
        </p:txBody>
      </p:sp>
      <p:pic>
        <p:nvPicPr>
          <p:cNvPr id="203" name="" descr=""/>
          <p:cNvPicPr/>
          <p:nvPr/>
        </p:nvPicPr>
        <p:blipFill>
          <a:blip r:embed="rId1"/>
          <a:stretch/>
        </p:blipFill>
        <p:spPr>
          <a:xfrm>
            <a:off x="1182600" y="2017800"/>
            <a:ext cx="7772400" cy="4114800"/>
          </a:xfrm>
          <a:prstGeom prst="rect">
            <a:avLst/>
          </a:prstGeom>
          <a:ln w="0">
            <a:noFill/>
          </a:ln>
        </p:spPr>
      </p:pic>
      <p:sp>
        <p:nvSpPr>
          <p:cNvPr id="3" name="PlaceHolder 2"/>
          <p:cNvSpPr>
            <a:spLocks noGrp="1"/>
          </p:cNvSpPr>
          <p:nvPr>
            <p:ph type="ftr" idx="2"/>
          </p:nvPr>
        </p:nvSpPr>
        <p:spPr/>
        <p:txBody>
          <a:bodyPr/>
          <a:p>
            <a:r>
              <a:t>Motorola Internal Use only</a:t>
            </a:r>
          </a:p>
        </p:txBody>
      </p:sp>
      <p:sp>
        <p:nvSpPr>
          <p:cNvPr id="4" name="PlaceHolder 3"/>
          <p:cNvSpPr>
            <a:spLocks noGrp="1"/>
          </p:cNvSpPr>
          <p:nvPr>
            <p:ph type="sldNum" idx="3"/>
          </p:nvPr>
        </p:nvSpPr>
        <p:spPr/>
        <p:txBody>
          <a:bodyPr/>
          <a:p>
            <a:fld id="{38A4D83B-E95C-4EBB-BF4C-F9AC11098EDC}" type="slidenum">
              <a:t>52</a:t>
            </a:fld>
          </a:p>
        </p:txBody>
      </p:sp>
      <p:sp>
        <p:nvSpPr>
          <p:cNvPr id="5" name="PlaceHolder 4"/>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d…</a:t>
            </a:r>
            <a:endParaRPr b="0" lang="en-US" sz="4400" spc="-1" strike="noStrike">
              <a:solidFill>
                <a:srgbClr val="333399"/>
              </a:solidFill>
              <a:latin typeface="Tahoma"/>
            </a:endParaRPr>
          </a:p>
        </p:txBody>
      </p:sp>
      <p:pic>
        <p:nvPicPr>
          <p:cNvPr id="205" name="" descr=""/>
          <p:cNvPicPr/>
          <p:nvPr/>
        </p:nvPicPr>
        <p:blipFill>
          <a:blip r:embed="rId1"/>
          <a:stretch/>
        </p:blipFill>
        <p:spPr>
          <a:xfrm>
            <a:off x="1182600" y="2017800"/>
            <a:ext cx="7772400" cy="4114800"/>
          </a:xfrm>
          <a:prstGeom prst="rect">
            <a:avLst/>
          </a:prstGeom>
          <a:ln w="0">
            <a:noFill/>
          </a:ln>
        </p:spPr>
      </p:pic>
      <p:sp>
        <p:nvSpPr>
          <p:cNvPr id="3" name="PlaceHolder 2"/>
          <p:cNvSpPr>
            <a:spLocks noGrp="1"/>
          </p:cNvSpPr>
          <p:nvPr>
            <p:ph type="ftr" idx="2"/>
          </p:nvPr>
        </p:nvSpPr>
        <p:spPr/>
        <p:txBody>
          <a:bodyPr/>
          <a:p>
            <a:r>
              <a:t>Motorola Internal Use only</a:t>
            </a:r>
          </a:p>
        </p:txBody>
      </p:sp>
      <p:sp>
        <p:nvSpPr>
          <p:cNvPr id="4" name="PlaceHolder 3"/>
          <p:cNvSpPr>
            <a:spLocks noGrp="1"/>
          </p:cNvSpPr>
          <p:nvPr>
            <p:ph type="sldNum" idx="3"/>
          </p:nvPr>
        </p:nvSpPr>
        <p:spPr/>
        <p:txBody>
          <a:bodyPr/>
          <a:p>
            <a:fld id="{E5F79A5D-19C7-45D3-8C26-C8FB305215F4}" type="slidenum">
              <a:t>53</a:t>
            </a:fld>
          </a:p>
        </p:txBody>
      </p:sp>
      <p:sp>
        <p:nvSpPr>
          <p:cNvPr id="5" name="PlaceHolder 4"/>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d…</a:t>
            </a:r>
            <a:r>
              <a:rPr b="0" lang="en-US" sz="4400" spc="-1" strike="noStrike">
                <a:solidFill>
                  <a:srgbClr val="333399"/>
                </a:solidFill>
                <a:latin typeface="Tahoma"/>
              </a:rPr>
              <a:t>	</a:t>
            </a:r>
            <a:endParaRPr b="0" lang="en-US" sz="4400" spc="-1" strike="noStrike">
              <a:solidFill>
                <a:srgbClr val="333399"/>
              </a:solidFill>
              <a:latin typeface="Tahoma"/>
            </a:endParaRPr>
          </a:p>
        </p:txBody>
      </p:sp>
      <p:grpSp>
        <p:nvGrpSpPr>
          <p:cNvPr id="207" name=""/>
          <p:cNvGrpSpPr/>
          <p:nvPr/>
        </p:nvGrpSpPr>
        <p:grpSpPr>
          <a:xfrm>
            <a:off x="609480" y="2514600"/>
            <a:ext cx="7772400" cy="838080"/>
            <a:chOff x="609480" y="2514600"/>
            <a:chExt cx="7772400" cy="838080"/>
          </a:xfrm>
        </p:grpSpPr>
        <p:pic>
          <p:nvPicPr>
            <p:cNvPr id="208" name="" descr=""/>
            <p:cNvPicPr/>
            <p:nvPr/>
          </p:nvPicPr>
          <p:blipFill>
            <a:blip r:embed="rId1">
              <a:lum bright="10000"/>
            </a:blip>
            <a:stretch/>
          </p:blipFill>
          <p:spPr>
            <a:xfrm>
              <a:off x="609480" y="2514600"/>
              <a:ext cx="7772400" cy="838080"/>
            </a:xfrm>
            <a:prstGeom prst="rect">
              <a:avLst/>
            </a:prstGeom>
            <a:ln w="0">
              <a:noFill/>
            </a:ln>
          </p:spPr>
        </p:pic>
        <p:sp>
          <p:nvSpPr>
            <p:cNvPr id="209" name=""/>
            <p:cNvSpPr txBox="1"/>
            <p:nvPr/>
          </p:nvSpPr>
          <p:spPr>
            <a:xfrm>
              <a:off x="609480" y="2514600"/>
              <a:ext cx="7772400" cy="838080"/>
            </a:xfrm>
            <a:prstGeom prst="rect">
              <a:avLst/>
            </a:prstGeom>
            <a:noFill/>
            <a:ln w="0">
              <a:noFill/>
            </a:ln>
          </p:spPr>
          <p:txBody>
            <a:bodyPr lIns="90000" rIns="90000" tIns="46800" bIns="46800" anchor="t">
              <a:normAutofit/>
            </a:bodyPr>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sp>
        <p:nvSpPr>
          <p:cNvPr id="3" name="PlaceHolder 2"/>
          <p:cNvSpPr>
            <a:spLocks noGrp="1"/>
          </p:cNvSpPr>
          <p:nvPr>
            <p:ph type="ftr" idx="2"/>
          </p:nvPr>
        </p:nvSpPr>
        <p:spPr/>
        <p:txBody>
          <a:bodyPr/>
          <a:p>
            <a:r>
              <a:t>Motorola Internal Use only</a:t>
            </a:r>
          </a:p>
        </p:txBody>
      </p:sp>
      <p:sp>
        <p:nvSpPr>
          <p:cNvPr id="4" name="PlaceHolder 3"/>
          <p:cNvSpPr>
            <a:spLocks noGrp="1"/>
          </p:cNvSpPr>
          <p:nvPr>
            <p:ph type="sldNum" idx="3"/>
          </p:nvPr>
        </p:nvSpPr>
        <p:spPr/>
        <p:txBody>
          <a:bodyPr/>
          <a:p>
            <a:fld id="{AAE1E1F7-0A36-4FDF-9128-F7AF63837761}" type="slidenum">
              <a:t>54</a:t>
            </a:fld>
          </a:p>
        </p:txBody>
      </p:sp>
      <p:sp>
        <p:nvSpPr>
          <p:cNvPr id="5" name="PlaceHolder 4"/>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Sounds</a:t>
            </a:r>
            <a:endParaRPr b="0" lang="en-US" sz="4400" spc="-1" strike="noStrike">
              <a:solidFill>
                <a:srgbClr val="333399"/>
              </a:solidFill>
              <a:latin typeface="Tahoma"/>
            </a:endParaRPr>
          </a:p>
        </p:txBody>
      </p:sp>
      <p:pic>
        <p:nvPicPr>
          <p:cNvPr id="211" name="" descr=""/>
          <p:cNvPicPr/>
          <p:nvPr/>
        </p:nvPicPr>
        <p:blipFill>
          <a:blip r:embed="rId1"/>
          <a:stretch/>
        </p:blipFill>
        <p:spPr>
          <a:xfrm>
            <a:off x="1182600" y="2017800"/>
            <a:ext cx="7772400" cy="4114800"/>
          </a:xfrm>
          <a:prstGeom prst="rect">
            <a:avLst/>
          </a:prstGeom>
          <a:ln w="0">
            <a:noFill/>
          </a:ln>
        </p:spPr>
      </p:pic>
      <p:sp>
        <p:nvSpPr>
          <p:cNvPr id="3" name="PlaceHolder 2"/>
          <p:cNvSpPr>
            <a:spLocks noGrp="1"/>
          </p:cNvSpPr>
          <p:nvPr>
            <p:ph type="ftr" idx="2"/>
          </p:nvPr>
        </p:nvSpPr>
        <p:spPr/>
        <p:txBody>
          <a:bodyPr/>
          <a:p>
            <a:r>
              <a:t>Motorola Internal Use only</a:t>
            </a:r>
          </a:p>
        </p:txBody>
      </p:sp>
      <p:sp>
        <p:nvSpPr>
          <p:cNvPr id="4" name="PlaceHolder 3"/>
          <p:cNvSpPr>
            <a:spLocks noGrp="1"/>
          </p:cNvSpPr>
          <p:nvPr>
            <p:ph type="sldNum" idx="3"/>
          </p:nvPr>
        </p:nvSpPr>
        <p:spPr/>
        <p:txBody>
          <a:bodyPr/>
          <a:p>
            <a:fld id="{4D499260-5DE7-41A5-8CA0-4063E396D01E}" type="slidenum">
              <a:t>55</a:t>
            </a:fld>
          </a:p>
        </p:txBody>
      </p:sp>
      <p:sp>
        <p:nvSpPr>
          <p:cNvPr id="5" name="PlaceHolder 4"/>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d…</a:t>
            </a:r>
            <a:endParaRPr b="0" lang="en-US" sz="4400" spc="-1" strike="noStrike">
              <a:solidFill>
                <a:srgbClr val="333399"/>
              </a:solidFill>
              <a:latin typeface="Tahoma"/>
            </a:endParaRPr>
          </a:p>
        </p:txBody>
      </p:sp>
      <p:pic>
        <p:nvPicPr>
          <p:cNvPr id="213" name="" descr=""/>
          <p:cNvPicPr/>
          <p:nvPr/>
        </p:nvPicPr>
        <p:blipFill>
          <a:blip r:embed="rId1"/>
          <a:stretch/>
        </p:blipFill>
        <p:spPr>
          <a:xfrm>
            <a:off x="1182600" y="2017800"/>
            <a:ext cx="7772400" cy="4114800"/>
          </a:xfrm>
          <a:prstGeom prst="rect">
            <a:avLst/>
          </a:prstGeom>
          <a:ln w="0">
            <a:noFill/>
          </a:ln>
        </p:spPr>
      </p:pic>
      <p:sp>
        <p:nvSpPr>
          <p:cNvPr id="3" name="PlaceHolder 2"/>
          <p:cNvSpPr>
            <a:spLocks noGrp="1"/>
          </p:cNvSpPr>
          <p:nvPr>
            <p:ph type="ftr" idx="2"/>
          </p:nvPr>
        </p:nvSpPr>
        <p:spPr/>
        <p:txBody>
          <a:bodyPr/>
          <a:p>
            <a:r>
              <a:t>Motorola Internal Use only</a:t>
            </a:r>
          </a:p>
        </p:txBody>
      </p:sp>
      <p:sp>
        <p:nvSpPr>
          <p:cNvPr id="4" name="PlaceHolder 3"/>
          <p:cNvSpPr>
            <a:spLocks noGrp="1"/>
          </p:cNvSpPr>
          <p:nvPr>
            <p:ph type="sldNum" idx="3"/>
          </p:nvPr>
        </p:nvSpPr>
        <p:spPr/>
        <p:txBody>
          <a:bodyPr/>
          <a:p>
            <a:fld id="{1FF12A7E-6D73-4AB9-8510-BBA1AEBFFE95}" type="slidenum">
              <a:t>56</a:t>
            </a:fld>
          </a:p>
        </p:txBody>
      </p:sp>
      <p:sp>
        <p:nvSpPr>
          <p:cNvPr id="5" name="PlaceHolder 4"/>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Flexing</a:t>
            </a:r>
            <a:endParaRPr b="0" lang="en-US" sz="4400" spc="-1" strike="noStrike">
              <a:solidFill>
                <a:srgbClr val="333399"/>
              </a:solidFill>
              <a:latin typeface="Tahoma"/>
            </a:endParaRPr>
          </a:p>
        </p:txBody>
      </p:sp>
      <p:sp>
        <p:nvSpPr>
          <p:cNvPr id="2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ry product release notes has a unique flex for PTT. </a:t>
            </a:r>
            <a:endParaRPr b="0" lang="en-US" sz="2800" spc="-1" strike="noStrike">
              <a:solidFill>
                <a:srgbClr val="000000"/>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 GITSAN2200PTT01E.hs</a:t>
            </a:r>
            <a:endParaRPr b="0" lang="en-US" sz="2800" spc="-1" strike="noStrike">
              <a:solidFill>
                <a:srgbClr val="000000"/>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GITSAN2200AA01E.h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M flex is common for non PTT &amp; PTT phon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GI- PTT flex file PTT is enabl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flex off PTT standard GI flex can be used in which PTT is flexed off</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38E20683-F965-4229-8C4D-727679A64437}" type="slidenum">
              <a:t>57</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M Provisioning</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enable PTT SIM Card must be provisioned with the PTT Server. i.e. a new account has to be created in the PTT server with the SIM – MSISDN number.  With this account you can access your Contact &amp; Group list in the remote server.</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7E049961-7619-486F-AAE4-A07A70C31223}" type="slidenum">
              <a:t>58</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erences</a:t>
            </a:r>
            <a:endParaRPr b="0" lang="en-US" sz="4400" spc="-1" strike="noStrike">
              <a:solidFill>
                <a:srgbClr val="333399"/>
              </a:solidFill>
              <a:latin typeface="Tahoma"/>
            </a:endParaRPr>
          </a:p>
        </p:txBody>
      </p:sp>
      <p:sp>
        <p:nvSpPr>
          <p:cNvPr id="21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keting Requirement specification#9336</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sh-To-Talk over the Cellular (PoC) Functionality </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0.9</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220" name=""/>
          <p:cNvGraphicFramePr/>
          <p:nvPr/>
        </p:nvGraphicFramePr>
        <p:xfrm>
          <a:off x="6588000" y="3832200"/>
          <a:ext cx="1865520" cy="981000"/>
        </p:xfrm>
        <a:graphic>
          <a:graphicData uri="http://schemas.openxmlformats.org/presentationml/2006/ole">
            <p:oleObj r:id="rId1" spid="">
              <p:embed/>
              <p:pic>
                <p:nvPicPr>
                  <p:cNvPr id="221" name="" descr=""/>
                  <p:cNvPicPr/>
                  <p:nvPr/>
                </p:nvPicPr>
                <p:blipFill>
                  <a:blip r:embed="rId2"/>
                  <a:stretch/>
                </p:blipFill>
                <p:spPr>
                  <a:xfrm>
                    <a:off x="6588000" y="3832200"/>
                    <a:ext cx="1865520" cy="981000"/>
                  </a:xfrm>
                  <a:prstGeom prst="rect">
                    <a:avLst/>
                  </a:prstGeom>
                  <a:ln w="0">
                    <a:noFill/>
                  </a:ln>
                </p:spPr>
              </p:pic>
            </p:oleObj>
          </a:graphicData>
        </a:graphic>
      </p:graphicFrame>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26A99666-9F45-4F0B-8257-EDAAA3AEC3E0}" type="slidenum">
              <a:t>59</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vantages of PTT</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imple Voice Communic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nline Contact Management</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ne Number Service</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st Saving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8AEC6417-F5A7-431A-8727-C4833AA3913C}" type="slidenum">
              <a:t>6</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rther Details</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2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details of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TT Applic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W configur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exing info</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 provisioning  &amp; FAQ</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ease refer</a:t>
            </a:r>
            <a:r>
              <a:rPr b="1" lang="en-US" sz="3200" spc="-1" strike="noStrike">
                <a:solidFill>
                  <a:srgbClr val="000000"/>
                </a:solidFill>
                <a:latin typeface="Courier New"/>
              </a:rPr>
              <a:t> </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http://compass.mot.com/go/mmiptt30</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9E796C99-7720-440A-944F-2E0F4DBA7743}" type="slidenum">
              <a:t>60</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600200" y="2666520"/>
            <a:ext cx="6400800" cy="1752840"/>
          </a:xfrm>
          <a:prstGeom prst="rect">
            <a:avLst/>
          </a:prstGeom>
          <a:noFill/>
          <a:ln w="0">
            <a:noFill/>
          </a:ln>
        </p:spPr>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7254"/>
                </a:solidFill>
                <a:latin typeface="Tahoma"/>
              </a:rPr>
              <a:t>Thank You </a:t>
            </a:r>
            <a:endParaRPr b="0" lang="en-US" sz="8000" spc="-1" strike="noStrike">
              <a:solidFill>
                <a:srgbClr val="000000"/>
              </a:solidFill>
              <a:latin typeface="Tahoma"/>
            </a:endParaRPr>
          </a:p>
        </p:txBody>
      </p:sp>
      <p:sp>
        <p:nvSpPr>
          <p:cNvPr id="3" name="PlaceHolder 2"/>
          <p:cNvSpPr>
            <a:spLocks noGrp="1"/>
          </p:cNvSpPr>
          <p:nvPr>
            <p:ph type="ftr" idx="2"/>
          </p:nvPr>
        </p:nvSpPr>
        <p:spPr/>
        <p:txBody>
          <a:bodyPr/>
          <a:p>
            <a:r>
              <a:t>Motorola Internal Use only</a:t>
            </a:r>
          </a:p>
        </p:txBody>
      </p:sp>
      <p:sp>
        <p:nvSpPr>
          <p:cNvPr id="4" name="PlaceHolder 3"/>
          <p:cNvSpPr>
            <a:spLocks noGrp="1"/>
          </p:cNvSpPr>
          <p:nvPr>
            <p:ph type="sldNum" idx="3"/>
          </p:nvPr>
        </p:nvSpPr>
        <p:spPr/>
        <p:txBody>
          <a:bodyPr/>
          <a:p>
            <a:fld id="{B85358A3-CA9C-4365-BEB1-4B81A04A5F7B}" type="slidenum">
              <a:t>61</a:t>
            </a:fld>
          </a:p>
        </p:txBody>
      </p:sp>
      <p:sp>
        <p:nvSpPr>
          <p:cNvPr id="5" name="PlaceHolder 4"/>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Simple Voice Communication</a:t>
            </a:r>
            <a:endParaRPr b="0" lang="en-US" sz="40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the push of a button, your employees can use Push to Talk for quick exchanges to their co-workers, associates and clients. </a:t>
            </a:r>
            <a:r>
              <a:rPr b="0" lang="en-US" sz="2800" spc="-1" strike="noStrike">
                <a:solidFill>
                  <a:srgbClr val="000000"/>
                </a:solidFill>
                <a:latin typeface="Tahoma"/>
              </a:rPr>
              <a:t>Connect a buddy or buddies at the touch of a butt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F301A4D4-6DDD-4943-AD62-8B4C1939CCCE}" type="slidenum">
              <a:t>7</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Online Contact Management</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re up-to as many as 200 Contact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re up-to 50 group contact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 your contacts Onlin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B8A69931-6414-4F19-84A7-C8D80A5E2A48}" type="slidenum">
              <a:t>8</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One Number Servic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number, one device for Push to Talk and GSM voice call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66EB23EA-136A-450C-8D94-5D3E151D1632}" type="slidenum">
              <a:t>9</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3T08:13:46Z</dcterms:created>
  <dc:creator>jagadish</dc:creator>
  <dc:description/>
  <dc:language>en-US</dc:language>
  <cp:lastModifiedBy>mohit</cp:lastModifiedBy>
  <dcterms:modified xsi:type="dcterms:W3CDTF">2005-03-30T02:40:33Z</dcterms:modified>
  <cp:revision>45</cp:revision>
  <dc:subject/>
  <dc:title>Panic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20364884</vt:r8>
  </property>
  <property fmtid="{D5CDD505-2E9C-101B-9397-08002B2CF9AE}" pid="3" name="_AuthorEmail">
    <vt:lpwstr>upadhyay@motorola.com</vt:lpwstr>
  </property>
  <property fmtid="{D5CDD505-2E9C-101B-9397-08002B2CF9AE}" pid="4" name="_AuthorEmailDisplayName">
    <vt:lpwstr>Upadhyay Mohit-A19655</vt:lpwstr>
  </property>
  <property fmtid="{D5CDD505-2E9C-101B-9397-08002B2CF9AE}" pid="5" name="_EmailSubject">
    <vt:lpwstr>Feature Training - PTT</vt:lpwstr>
  </property>
  <property fmtid="{D5CDD505-2E9C-101B-9397-08002B2CF9AE}" pid="6" name="_PreviousAdHocReviewCycleID">
    <vt:r8>-883521919</vt:r8>
  </property>
</Properties>
</file>