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21440" y="1461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3_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355200" y="6400800"/>
            <a:ext cx="25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Service Engineering &amp; Optim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927600" y="662940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Level 3 , Rev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11960" y="131760"/>
            <a:ext cx="1676520" cy="361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790560" y="111240"/>
            <a:ext cx="452520" cy="7938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0169" r="46538" b="0"/>
          <a:stretch/>
        </p:blipFill>
        <p:spPr>
          <a:xfrm>
            <a:off x="457200" y="1382760"/>
            <a:ext cx="4114800" cy="471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952880" y="1616040"/>
            <a:ext cx="3692520" cy="4022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0" t="10169" r="46538" b="0"/>
          <a:stretch/>
        </p:blipFill>
        <p:spPr>
          <a:xfrm>
            <a:off x="457200" y="1382760"/>
            <a:ext cx="4114800" cy="4713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952880" y="1616040"/>
            <a:ext cx="3692520" cy="4022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2598840"/>
            <a:ext cx="47246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TORAZR V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3_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4956120" y="1195560"/>
            <a:ext cx="361800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6840" y="1130400"/>
            <a:ext cx="75344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19000" y="752400"/>
            <a:ext cx="751212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3680" y="1201680"/>
            <a:ext cx="839772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1480" y="1114560"/>
            <a:ext cx="822492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3520" y="988920"/>
            <a:ext cx="85914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7680" y="920880"/>
            <a:ext cx="88963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53880" y="1068480"/>
            <a:ext cx="848700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03280" y="979560"/>
            <a:ext cx="81630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18960" y="920880"/>
            <a:ext cx="83534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55680" y="906480"/>
            <a:ext cx="84456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89160" y="63360"/>
            <a:ext cx="27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74600" y="1049400"/>
            <a:ext cx="7599600" cy="58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A D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2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m Fact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m 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enn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nds/Mod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 850/900/1800/1900 MHz, GPRS/EDGE Class 1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U/4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eigh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9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imensi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 x 98 x 13.9m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ispla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”, 176 x 220, 262k Color TFT, Main Disp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”, 96 x 80, 65k Color CSTN, CLI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tter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0mAh Li-lon (BR50, SNN56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T/SB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up to 6 – 8hrs of 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6.5 – 10.4 days of S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emor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MB Fla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8MB PS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4.5M User Memory, but depends on customer SW load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65440" y="855720"/>
            <a:ext cx="581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sual differences between RAZR05 and RAZR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2080" y="4160880"/>
            <a:ext cx="1908000" cy="2006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47680" y="1341360"/>
            <a:ext cx="4213080" cy="2389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919760" y="1330200"/>
            <a:ext cx="3895560" cy="2627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717640" y="4313160"/>
            <a:ext cx="2259000" cy="1793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5732640" y="4390920"/>
            <a:ext cx="24192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525840" y="9190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ain P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79520" y="1717560"/>
            <a:ext cx="3998880" cy="3473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727520" y="1574640"/>
            <a:ext cx="4154400" cy="361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578640" y="1447920"/>
            <a:ext cx="227340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46040" y="2209680"/>
            <a:ext cx="800280" cy="635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2520" y="2284560"/>
            <a:ext cx="57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1680" y="2152800"/>
            <a:ext cx="1028880" cy="1038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90120" y="2303640"/>
            <a:ext cx="86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Neptune LTE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38680" y="3514680"/>
            <a:ext cx="485640" cy="295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99520" y="3560760"/>
            <a:ext cx="36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M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57680" y="3505320"/>
            <a:ext cx="799920" cy="799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21400" y="3579840"/>
            <a:ext cx="72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trans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95600" y="3419640"/>
            <a:ext cx="599760" cy="609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9760" y="3875040"/>
            <a:ext cx="65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Bluet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5600" y="3171960"/>
            <a:ext cx="257040" cy="209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20" y="3008160"/>
            <a:ext cx="52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26MH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Crys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for B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114720"/>
            <a:ext cx="124776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3800520"/>
            <a:ext cx="257040" cy="200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0960" y="4700520"/>
            <a:ext cx="61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26MH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Crys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for U2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010280" y="3990600"/>
            <a:ext cx="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2120" y="3666960"/>
            <a:ext cx="552240" cy="63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0920" y="3665520"/>
            <a:ext cx="32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P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86560" y="2448000"/>
            <a:ext cx="790560" cy="790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24280" y="299880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Atlas Ultra L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3286080"/>
            <a:ext cx="552240" cy="114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47720" y="530388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32.768KH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Crys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295680" y="3400560"/>
            <a:ext cx="237960" cy="19144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67600" y="3762360"/>
            <a:ext cx="704880" cy="619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70840" y="3751200"/>
            <a:ext cx="69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EMU Co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2295360"/>
            <a:ext cx="447480" cy="1162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24400" y="312264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Vibr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43680" y="2066760"/>
            <a:ext cx="600120" cy="790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18120" y="2532240"/>
            <a:ext cx="6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SIM Co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1590840"/>
            <a:ext cx="933480" cy="52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10560" y="167472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Battery Cont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2266920"/>
            <a:ext cx="285480" cy="1047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97560" y="1541520"/>
            <a:ext cx="128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Main-to-Flip Flex Co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210200" y="1733400"/>
            <a:ext cx="218880" cy="552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309840" y="9064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lip Flex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81160" y="1447920"/>
            <a:ext cx="2946240" cy="471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886280" y="1457280"/>
            <a:ext cx="2982960" cy="4667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178760" y="6027840"/>
            <a:ext cx="59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earpie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6829200" y="5943240"/>
            <a:ext cx="399960" cy="18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24640" y="614196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Backup Ce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3876840" y="5924520"/>
            <a:ext cx="295200" cy="238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89440" y="5065560"/>
            <a:ext cx="132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Main Display Flex Co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571920" y="5172120"/>
            <a:ext cx="34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4000" y="1665360"/>
            <a:ext cx="115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Graphic Acceler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952360" y="1790640"/>
            <a:ext cx="7333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080" y="1322280"/>
            <a:ext cx="130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Camera Module Soc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14680" y="1428840"/>
            <a:ext cx="41904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3160" y="1855800"/>
            <a:ext cx="131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Flip-to-Main- Flex Co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38200" y="1971720"/>
            <a:ext cx="190440" cy="371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66760" y="5904000"/>
            <a:ext cx="70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LED Dr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781280" y="5181480"/>
            <a:ext cx="752400" cy="781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7440" y="5361120"/>
            <a:ext cx="125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CLI Display Flex Co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247760" y="5000400"/>
            <a:ext cx="457200" cy="409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7440" y="3627360"/>
            <a:ext cx="81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Side Butt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5320" y="3743280"/>
            <a:ext cx="314280" cy="476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895320" y="2943360"/>
            <a:ext cx="3038400" cy="799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95320" y="3286080"/>
            <a:ext cx="31428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95320" y="2543040"/>
            <a:ext cx="324000" cy="1190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69360" y="117936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nual Test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57560" y="2055960"/>
            <a:ext cx="49384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ter test mod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ess  “Menu” button followed by 048263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20920" y="3490920"/>
            <a:ext cx="493884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ter suspend mod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nter “54”, then select &lt;OK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hen “Success” message appears, select &lt;Back&gt; to act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64200" y="5608800"/>
            <a:ext cx="42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testing commands are same as V3 series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416400" y="114480"/>
            <a:ext cx="26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lock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1360" y="6006960"/>
            <a:ext cx="304776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71680" y="841320"/>
            <a:ext cx="779760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95360" y="820800"/>
            <a:ext cx="669600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57360" y="1441440"/>
            <a:ext cx="8118360" cy="65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137160" anchor="t">
            <a:spAutoFit/>
          </a:bodyPr>
          <a:p>
            <a:pPr marL="168120" indent="-168120">
              <a:lnSpc>
                <a:spcPct val="40000"/>
              </a:lnSpc>
              <a:spcAft>
                <a:spcPts val="675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Messaging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MS, EMS, IM (Wireless Village), E-Mail (POP3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MTP, IMA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Audi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           22 KHz polyphonic sp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  <a:ea typeface="굴림"/>
              </a:rPr>
              <a:t>Video 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MPEG4 &amp; H.263 (Record &amp; Playback), 3D Graphic Eng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  <a:ea typeface="굴림"/>
              </a:rPr>
              <a:t>Music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MP3, MIDI (24 chan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Imager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GA, 4x Digital Zoom, Fixed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Connec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U, Bluetooth Class 2,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Browser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WAP2.0, MIDP2.0, J2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Key BL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lue EL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8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8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Aft>
                <a:spcPts val="675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84280" y="803160"/>
            <a:ext cx="47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y Features &amp; Enab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62440" y="882720"/>
            <a:ext cx="35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y Sell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2640" y="1846440"/>
            <a:ext cx="8145360" cy="29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ZR ID (Ultra thin desig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lliant 2.2”, 262K TFT color display &amp; 64K CSTN external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Idle (carrier depend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caller ID on both displays (Allows you to see who’s cal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d Message Center &amp; Browser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® Connectivity (Class 2, up to 30 f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letter phonebook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48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Speaker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44560" y="995400"/>
            <a:ext cx="791856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38040" y="1058760"/>
            <a:ext cx="846792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38040" y="1035000"/>
            <a:ext cx="8467920" cy="5041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2720" y="6129360"/>
            <a:ext cx="24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** Neptune LTE2 &amp; AUL are comm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52480" y="839880"/>
            <a:ext cx="5662800" cy="5495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63960" y="1168560"/>
            <a:ext cx="39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  <a:ea typeface="SimSun"/>
              </a:rPr>
              <a:t>CMF base on Razr 05, PCB layout base on Siliqua 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927000"/>
            <a:ext cx="814068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11:58:59Z</dcterms:created>
  <dc:creator>wfab610</dc:creator>
  <dc:description/>
  <dc:language>en-US</dc:language>
  <cp:lastModifiedBy>FSNG251</cp:lastModifiedBy>
  <dcterms:modified xsi:type="dcterms:W3CDTF">2007-04-23T02:44:26Z</dcterms:modified>
  <cp:revision>121</cp:revision>
  <dc:subject/>
  <dc:title>Folie 1</dc:title>
</cp:coreProperties>
</file>