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FCA-CDC7-4E0F-9852-5620139A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72C-CA8B-44AB-9390-3240B53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4C8-287F-4331-9873-E7EAB2D6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CB6-1324-400D-BEF0-CF871550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BD32-259C-4EFB-ABF9-EC6EF948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71C2-07A0-4F7F-BAF5-A010177B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79CC-FB6E-4F8A-8DDE-02A1CDE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B46E-8426-4E8A-941E-7A0A124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4259-C1FB-4C78-9B82-B257C0F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23888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9598-C0C0-4A1A-9B3B-B19F3173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495-62B8-48CD-A597-859469B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AC9-16C3-4B4A-9D16-27EA930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7FB5-CFFD-4BEB-8661-C9DE24A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30D9-E806-46E9-B0C0-9D51D04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3CE7-71F1-49DD-A947-AF65CB7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5D89-CD48-409D-817E-10CAF96A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83772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2376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AFF-B051-4EBF-9B2F-F7D340B9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B4E-0689-4B27-A673-82A6A9AA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416-A341-4F36-8517-8AD1CB3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BD1-0893-4BFB-9E65-BCF8B4C7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51920"/>
            <a:ext cx="723888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697-3BE7-4AAD-A862-879F2E8D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660-E4DF-4195-8EF6-236A3374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2376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17F-1A16-4606-AEE6-71D9C37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59400"/>
            <a:ext cx="7238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772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376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FB8-DA13-4502-8A1E-0E09A426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1ED-F6D5-4BAA-BF0C-51127D41D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1280" y="6367320"/>
          <a:ext cx="899964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367320"/>
                    <a:ext cx="899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1920" cy="55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40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otorola Confidential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ept. 4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152280"/>
            <a:ext cx="7315200" cy="45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0899-E3DD-4666-9FFD-89B8C46F1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280" y="6367320"/>
          <a:ext cx="899964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367320"/>
                    <a:ext cx="89996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31920" cy="5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4080" y="653724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Motorola Confidential Propriet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Sept. 4, 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770v/E3 ROK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F Troublesho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2057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1643040" cy="380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69651" b="0"/>
          <a:stretch/>
        </p:blipFill>
        <p:spPr>
          <a:xfrm>
            <a:off x="228600" y="2133720"/>
            <a:ext cx="164160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77903" b="0"/>
          <a:stretch/>
        </p:blipFill>
        <p:spPr>
          <a:xfrm>
            <a:off x="5105520" y="2286000"/>
            <a:ext cx="173016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53006" t="17916" r="17366" b="17666"/>
          <a:stretch/>
        </p:blipFill>
        <p:spPr>
          <a:xfrm>
            <a:off x="6861240" y="2209680"/>
            <a:ext cx="1771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fai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current : It should draw about 500-600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M TX work but DCS/PCS doesn’t work or vice vers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ctive PA. Replace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enough output power at maximum power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Maximum output power when it is saturated. Should show at least 1dB higher than target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simple camp using ToolBox.  Compare between input RF level and reported RF level from ph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int between FEM to Blue module : expect to see RF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point between Blue to Harmony : when input at antenna is -50 to -40, expected Vac,pp : 2.5-3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R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Receiver,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F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ink Channel: 10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d RX IQ, offset freq by 1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 -30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W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CMP: 10700 (06 response =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R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IF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2238120" cy="1857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3156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WCDMA RSSI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6 test points right next to Harmony.  When those voltage present, GSM and WCDMA most likely working fine.  If any of those voltages not present, RX path is not working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516-519 WB_DCOC_I/Q : 1.8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509, TP510 : MBC_EN_1/2 WCDMA LNA enable and low/high gain mode switch 2.775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Transmitter, Ma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F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ink Channel: 9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W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_CARRIER: 9750, En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IF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3156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CDMA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 TX output power on tes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for requested power 21dBm : 700-900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not enough current present, check RF signal between Rattler and WCDMA PA.  Expected to see same frequency as TX frequency.  If the RF signal does not present, check I/Q line from Harm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equipment is calib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Gate system failure on the tech bench. Use same test parameters as Gat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different mode and bands (Example : Test mode and on c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differentiate between Gate system issues and component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can not duplicate the issue on your bench, always work with test engineers for further analysi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102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P/t Normal GM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GSM B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H: 700(D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: -30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900/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P: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2361960" cy="1881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182880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l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477120" y="2743200"/>
            <a:ext cx="2228760" cy="1851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2880" y="2717640"/>
            <a:ext cx="2352600" cy="1914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 I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029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5029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RX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ing BER (Bit Error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X lin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 (Ant in, RX out, control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un (In,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Module (RX in, RX 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X Line-up ok, check R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G issue. Replace P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y Issue. Replace Harm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Equipment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up to non-signalin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U 200 – P/t Normal GM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S 8960 – GSM BCH-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H: 512(D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unde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C commands (Radioco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_MODE: 900/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_RF_PWR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: 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: Option 00,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Line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457200" y="152352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05740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858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828800"/>
            <a:ext cx="838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82880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8288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00" y="2982960"/>
            <a:ext cx="1914480" cy="15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2352600" cy="1914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066680" y="4876920"/>
            <a:ext cx="12956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876920"/>
            <a:ext cx="12952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362320" y="50292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7680" y="3352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Test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23888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TX 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X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current : It should draw about 500-600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TX work but DCS/PCS doesn’t work or vice vers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ive PA. Replace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enough output power at maximum power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Maximum output power when it is saturated. Should show at least 1dB higher than targe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5:46:59Z</dcterms:created>
  <dc:creator>Glenn Zax</dc:creator>
  <dc:description/>
  <dc:language>en-US</dc:language>
  <cp:lastModifiedBy>wleg05</cp:lastModifiedBy>
  <dcterms:modified xsi:type="dcterms:W3CDTF">2005-09-12T06:46:34Z</dcterms:modified>
  <cp:revision>72</cp:revision>
  <dc:subject/>
  <dc:title>Slide 1</dc:title>
</cp:coreProperties>
</file>