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993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388A-B5A3-44A3-94E6-75736454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5940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2376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BADD-CF87-4E08-89D4-21CAC93E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5940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237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237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EEBA-D320-479C-A204-FAEF96A1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5940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83772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83772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2376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2376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2376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4D9E-26A7-4EAF-B8A2-13377F16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F2BA-3042-4DFE-A031-206F1167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5940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7DED-1AA1-4AA7-993D-75E019F6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5940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EA9B-F6F6-4693-BF16-810EDB36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5940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A20C-DC40-4F76-9D6D-D0DEEA8C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5940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9436-B0F5-49FF-81AD-AEFE9764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219320" y="151920"/>
            <a:ext cx="7238880" cy="15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B3F5-4CC3-4556-B1FA-A1B77FB1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5940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237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0A07-16A6-476E-B9CD-78829F6E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5940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E994-74B0-40BB-8FB0-C48A8CAC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5940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6237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4F2E-42FE-452E-8FF6-4C196009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5940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2376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73C2-8D07-45C4-841E-3BBC6AD0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5940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62376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96C1-2D83-47D4-AEF7-3961705F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5940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237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6237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9036-B2C5-4ABA-B2CB-F4A1A054C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5940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83772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83772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62376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62376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62376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1C09-0435-41C8-97C0-012FE341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5940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1B54-F881-4CA0-B247-ED25314B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5940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C52A-C6D2-40B4-A25D-8E39AEA5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5940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01A7-0645-4369-BF3A-DE1B29F1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151920"/>
            <a:ext cx="7238880" cy="15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D4F8-282C-474A-9773-CF6612E0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5940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237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8163-4583-4AE9-B089-5B57B3BE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5940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237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D73A-51B8-45E4-8426-4E2215B8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5940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2376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4D52-EA13-42FF-967A-01039372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B5BA-B5A2-46FD-8A78-928949850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1280" y="6367320"/>
          <a:ext cx="8999640" cy="5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" y="6367320"/>
                    <a:ext cx="899964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31920" cy="5572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124080" y="6537240"/>
            <a:ext cx="289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Motorola Confidential Propriet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Sept. 4, 20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04920" y="6248520"/>
            <a:ext cx="845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219320" y="152280"/>
            <a:ext cx="7315200" cy="454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23888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4E0A-39C8-4A0C-AF96-ACD0D0159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1280" y="6367320"/>
          <a:ext cx="8999640" cy="5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" y="6367320"/>
                    <a:ext cx="899964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31920" cy="557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124080" y="6537240"/>
            <a:ext cx="289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Motorola Confidential Propriet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Sept. 4, 20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6248520"/>
            <a:ext cx="845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770v/E3 ROK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F Troubleshoo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1981080"/>
            <a:ext cx="2057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057400" y="2133720"/>
            <a:ext cx="1643040" cy="3809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0" t="0" r="69651" b="0"/>
          <a:stretch/>
        </p:blipFill>
        <p:spPr>
          <a:xfrm>
            <a:off x="228600" y="2133720"/>
            <a:ext cx="1641600" cy="3809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rcRect l="0" t="0" r="77903" b="0"/>
          <a:stretch/>
        </p:blipFill>
        <p:spPr>
          <a:xfrm>
            <a:off x="5105520" y="2286000"/>
            <a:ext cx="1730160" cy="3505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rcRect l="53006" t="17916" r="17366" b="17666"/>
          <a:stretch/>
        </p:blipFill>
        <p:spPr>
          <a:xfrm>
            <a:off x="6861240" y="2209680"/>
            <a:ext cx="17715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23888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 Troublesho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X fail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current : It should draw about 500-600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M TX work but DCS/PCS doesn’t work or vice vers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ective PA. Replace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enough output power at maximum power 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 Maximum output power when it is saturated. Should show at least 1dB higher than target p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X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simple camp using ToolBox.  Compare between input RF level and reported RF level from ph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point between FEM to Blue module : expect to see RF frequ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point between Blue to Harmony : when input at antenna is -50 to -40, expected Vac,pp : 2.5-3.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23888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CDMA RX Equipment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up to non-signaling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U 200 – Receiver, 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&amp;S 8960 – F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ink Channel: 10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ad RX IQ, offset freq by 1 k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: -30dB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 under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PC commands (Radiocom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_MODE: W2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SCMP: 10700 (06 response = Suc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23888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CDMA RX Line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52400" y="2982960"/>
            <a:ext cx="1914480" cy="15588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rot="10800000">
            <a:off x="457200" y="1523520"/>
            <a:ext cx="457200" cy="304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205740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85800" y="1828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182880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52680" y="1828800"/>
            <a:ext cx="8384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182880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1828800"/>
            <a:ext cx="1219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rmo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42880" y="2717640"/>
            <a:ext cx="2352600" cy="19148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543800" y="1828800"/>
            <a:ext cx="1219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876920"/>
            <a:ext cx="12956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X 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67080" y="4876920"/>
            <a:ext cx="12956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X I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4876920"/>
            <a:ext cx="12952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IF 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62320" y="50292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62720" y="5029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3733920" y="2743200"/>
            <a:ext cx="2238120" cy="18572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631560" y="335268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 Test poi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23888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CDMA Troublesho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X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 WCDMA RSSI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are 6 test points right next to Harmony.  When those voltage present, GSM and WCDMA most likely working fine.  If any of those voltages not present, RX path is not working proper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P516-519 WB_DCOC_I/Q : 1.8V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P509, TP510 : MBC_EN_1/2 WCDMA LNA enable and low/high gain mode switch 2.775V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23888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CDMA TX Equipment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up to non-signaling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U 200 – Transmitter, Max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&amp;S 8960 – F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link Channel: 9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 under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PC commands (Radiocom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_MODE: W2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_CARRIER: 9750, Enab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23888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CDMA TX Line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52400" y="2982960"/>
            <a:ext cx="1914480" cy="1558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rot="10800000">
            <a:off x="457200" y="1523520"/>
            <a:ext cx="457200" cy="304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05740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85800" y="1828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182880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352680" y="1828800"/>
            <a:ext cx="8384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tt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52480" y="182880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1828800"/>
            <a:ext cx="1219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rmo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42880" y="2717640"/>
            <a:ext cx="2352600" cy="1914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543800" y="1828800"/>
            <a:ext cx="1219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4876920"/>
            <a:ext cx="12956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X 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67080" y="4876920"/>
            <a:ext cx="12956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X I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4876920"/>
            <a:ext cx="12952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IF 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50292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62720" y="5029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31560" y="335268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 Test poi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733920" y="2743200"/>
            <a:ext cx="22860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23888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CDMA Troublesho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X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TX output power on test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for requested power 21dBm : 700-900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not enough current present, check RF signal between Rattler and WCDMA PA.  Expected to see same frequency as TX frequency.  If the RF signal does not present, check I/Q line from Harmo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23888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equipment is calib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licate Gate system failure on the tech bench. Use same test parameters as Gate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different mode and bands (Example : Test mode and on c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differentiate between Gate system issues and component fail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can not duplicate the issue on your bench, always work with test engineers for further analysis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23888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ubleshooting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4102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23888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 RX Equipment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up to non-signaling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U 200 – P/t Normal GM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&amp;S 8960 – GSM B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H: 700(D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: -30dB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 under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PC commands (Radiocom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_MODE: 900/1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MP: 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23888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 RX Line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733920" y="2743200"/>
            <a:ext cx="2361960" cy="1881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52400" y="2982960"/>
            <a:ext cx="1914480" cy="1558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rot="10800000">
            <a:off x="457200" y="1523520"/>
            <a:ext cx="457200" cy="304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05740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685800" y="1828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82880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1828800"/>
            <a:ext cx="8384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182880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l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38680" y="1828800"/>
            <a:ext cx="1219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rmo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477120" y="2743200"/>
            <a:ext cx="2228760" cy="1851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42880" y="2717640"/>
            <a:ext cx="2352600" cy="1914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543800" y="1828800"/>
            <a:ext cx="1219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4876920"/>
            <a:ext cx="12956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X 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876920"/>
            <a:ext cx="12956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X I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34320" y="4876920"/>
            <a:ext cx="12952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50292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5029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23888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 RX Troublesho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ing BER (Bit Error R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RX line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 (Ant in, RX out, control l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un (In, 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 Module (RX in, RX I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RX Line-up ok, check R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G issue. Replace P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mony Issue. Replace Harm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23888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 TX Equipment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up to non-signaling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U 200 – P/t Normal GM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&amp;S 8960 – GSM BCH-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H: 512(D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 under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PC commands (Radiocom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_MODE: 900/1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_RF_PWR: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: 5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: Option 00,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23888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 TX Line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0800000">
            <a:off x="457200" y="1523520"/>
            <a:ext cx="457200" cy="304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05740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85800" y="1828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182880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1828800"/>
            <a:ext cx="8380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182880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43800" y="1828800"/>
            <a:ext cx="1219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52400" y="2982960"/>
            <a:ext cx="1914480" cy="1558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2352600" cy="1914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066680" y="4876920"/>
            <a:ext cx="12956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X 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4876920"/>
            <a:ext cx="12952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362320" y="5029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07680" y="335268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 Test poi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23888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 TX Troublesho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X fail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current : It should draw about 500-600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M TX work but DCS/PCS doesn’t work or vice vers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ective PA. Replace 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enough output power at maximum power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Maximum output power when it is saturated. Should show at least 1dB higher than target p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2T15:46:59Z</dcterms:created>
  <dc:creator>Glenn Zax</dc:creator>
  <dc:description/>
  <dc:language>en-US</dc:language>
  <cp:lastModifiedBy>wleg05</cp:lastModifiedBy>
  <dcterms:modified xsi:type="dcterms:W3CDTF">2005-09-12T06:46:34Z</dcterms:modified>
  <cp:revision>72</cp:revision>
  <dc:subject/>
  <dc:title>Slide 1</dc:title>
</cp:coreProperties>
</file>