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0.png" ContentType="image/png"/>
  <Override PartName="/ppt/media/image6.jpeg" ContentType="image/jpeg"/>
  <Override PartName="/ppt/media/image5.wmf" ContentType="image/x-wmf"/>
  <Override PartName="/ppt/media/image28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25.wmf" ContentType="image/x-wmf"/>
  <Override PartName="/ppt/media/image1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1A86-94A4-43EA-98AE-2A4D28746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4BD1-5878-4860-B1DA-04DAC7FFA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6411-B463-4EEE-B806-E2148D528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B6ED-49AA-47F6-AEAE-55C4E2F9BC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618A-4A71-4A0A-AC83-F4FF302191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AE84-A5C7-42A2-AB71-9598D55AF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360A-6887-4EF3-8904-382A2B388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BB16-AD8E-4023-8E90-F605EDA01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FA3A-5BEF-47F3-92CE-D37985644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B1E0-97CD-4124-8CA9-D608DA524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5D57-CD09-4156-97E1-E00011CD5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0F62-1908-4B26-A56B-B54A2DBD6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361200"/>
            <a:ext cx="9144000" cy="49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ision 1.0</a:t>
            </a:r>
            <a:fld id="{D82B6A68-DB79-4F8E-9549-42807B9CB6F5}" type="slidenum">
              <a:rPr b="0" lang="en-US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35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858000" y="76320"/>
            <a:ext cx="2057400" cy="458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620360" y="1461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TOROLA W205 – W2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354840" y="6400800"/>
            <a:ext cx="248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Service Engineeing &amp; Opti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94360" y="6629400"/>
            <a:ext cx="14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Level 1 / 2 , Rev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26920" y="115920"/>
            <a:ext cx="360360" cy="792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05264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2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2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2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2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2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1800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0680" y="1533600"/>
            <a:ext cx="81626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36680" y="1312920"/>
            <a:ext cx="8270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09600" y="1503360"/>
            <a:ext cx="67230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467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00320" y="990720"/>
            <a:ext cx="6541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75240" y="893880"/>
            <a:ext cx="21171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Verdana"/>
              </a:rPr>
              <a:t>SPECIFICATION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7800" y="1343160"/>
            <a:ext cx="741528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SA Dat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Q4 20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Form Factor: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Bar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Bands/Modes: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GSM 900/180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Siz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65c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Weight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     78 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TT/SB Time: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T: 238~469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B: 133~304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Battery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850mA Li-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17600" y="990720"/>
            <a:ext cx="6507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6680" y="990720"/>
            <a:ext cx="7578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467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24640" y="903240"/>
            <a:ext cx="13536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Verdana"/>
              </a:rPr>
              <a:t>ENAB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8120" y="1620720"/>
            <a:ext cx="8435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Display: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.5” 128*128 65K color T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4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新細明體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新細明體"/>
              </a:rPr>
              <a:t>B/W CSTN for W205, W2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Browser: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/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Audio: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peaker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Messaging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MS,EMS Imelody format downloadabl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ingtone, NSM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Email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N/A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Sync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N/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onnectivity: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UA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Memor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64MBit(Flash)+16M(RAM); None memory for u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Securi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TI Locosto security chip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9480" y="855720"/>
            <a:ext cx="179712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Verdana"/>
              </a:rPr>
              <a:t>KEY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4760" y="1228680"/>
            <a:ext cx="639108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638360"/>
            <a:ext cx="783432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Codec: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MIDI, A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Capability :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 32 Channel Polyphonic ring tone; 24 channel in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dedicated m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when device in idle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Navigation: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 5-Wa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Antanna: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　      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Other function: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VibraCall vibrating ale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M radio (w/o W205, W2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Imager: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VGA 640x480 (W215, W216, W218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84440" y="2349360"/>
            <a:ext cx="84132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88080" y="2349360"/>
            <a:ext cx="858600" cy="1800360"/>
          </a:xfrm>
          <a:prstGeom prst="rect">
            <a:avLst/>
          </a:prstGeom>
          <a:ln w="0">
            <a:noFill/>
          </a:ln>
        </p:spPr>
      </p:pic>
      <p:pic>
        <p:nvPicPr>
          <p:cNvPr id="57" name="licorice_licorice_noborder8" descr=""/>
          <p:cNvPicPr/>
          <p:nvPr/>
        </p:nvPicPr>
        <p:blipFill>
          <a:blip r:embed="rId3"/>
          <a:stretch/>
        </p:blipFill>
        <p:spPr>
          <a:xfrm>
            <a:off x="7211880" y="2349360"/>
            <a:ext cx="85104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2b_808_ugly" descr=""/>
          <p:cNvPicPr/>
          <p:nvPr/>
        </p:nvPicPr>
        <p:blipFill>
          <a:blip r:embed="rId4"/>
          <a:srcRect l="3267" t="0" r="5243" b="0"/>
          <a:stretch/>
        </p:blipFill>
        <p:spPr>
          <a:xfrm>
            <a:off x="8167680" y="2349360"/>
            <a:ext cx="70632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969160" y="2349360"/>
            <a:ext cx="80640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k" descr=""/>
          <p:cNvPicPr/>
          <p:nvPr/>
        </p:nvPicPr>
        <p:blipFill>
          <a:blip r:embed="rId6"/>
          <a:stretch/>
        </p:blipFill>
        <p:spPr>
          <a:xfrm>
            <a:off x="1406520" y="2349360"/>
            <a:ext cx="103356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k" descr=""/>
          <p:cNvPicPr/>
          <p:nvPr/>
        </p:nvPicPr>
        <p:blipFill>
          <a:blip r:embed="rId7"/>
          <a:stretch/>
        </p:blipFill>
        <p:spPr>
          <a:xfrm>
            <a:off x="3774960" y="2349360"/>
            <a:ext cx="1033560" cy="1800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62560" y="855720"/>
            <a:ext cx="227088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Verdana"/>
              </a:rPr>
              <a:t>Product Vari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4760" y="1228680"/>
            <a:ext cx="639108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09520" y="1636560"/>
          <a:ext cx="8755200" cy="2872080"/>
        </p:xfrm>
        <a:graphic>
          <a:graphicData uri="http://schemas.openxmlformats.org/drawingml/2006/table">
            <a:tbl>
              <a:tblPr/>
              <a:tblGrid>
                <a:gridCol w="216000"/>
                <a:gridCol w="940320"/>
                <a:gridCol w="1064520"/>
                <a:gridCol w="1141560"/>
                <a:gridCol w="216000"/>
                <a:gridCol w="961920"/>
                <a:gridCol w="1072440"/>
                <a:gridCol w="1141560"/>
                <a:gridCol w="216000"/>
                <a:gridCol w="929160"/>
                <a:gridCol w="85572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2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2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2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2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2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7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453240" y="4673520"/>
            <a:ext cx="61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 more information please refer to comparison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9907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esign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5936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9144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Liquid Crystal Display (LCD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74680" y="2050920"/>
            <a:ext cx="6794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9680" y="91440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Dis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3600" y="1371600"/>
            <a:ext cx="841536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69960" y="1066680"/>
            <a:ext cx="6002280" cy="4114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52480" y="5105520"/>
            <a:ext cx="46357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2:53:23Z</dcterms:created>
  <dc:creator>Johann_Huang</dc:creator>
  <dc:description/>
  <dc:language>en-US</dc:language>
  <cp:lastModifiedBy>wfab610</cp:lastModifiedBy>
  <dcterms:modified xsi:type="dcterms:W3CDTF">2006-12-08T07:33:40Z</dcterms:modified>
  <cp:revision>5</cp:revision>
  <dc:subject/>
  <dc:title>投影片 1</dc:title>
</cp:coreProperties>
</file>