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1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E59C-660D-44E3-B4CD-E41395E4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453F-F792-49E9-B561-61C1D855C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C9DC-C36F-4E90-A880-E6D6EDA20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535A-8EFF-46FB-B918-45A8D1363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CB35-0C6D-4AB2-8BF1-4049877A7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BC5E-02D7-4D38-99C3-D00F0E6E2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5079-368A-4BCF-BF9E-4DAD26B89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A866-EC6C-4B2A-B96F-AA27AA891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8E7F-A8D6-47C7-85B3-5B0164172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348E-170F-4AD2-B7B0-B71C4B579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1494-8B2B-44C4-A669-572E99DDB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B71A-E746-4E95-A2D5-863FD8E62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61200"/>
            <a:ext cx="9144000" cy="49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sion 1.0</a:t>
            </a:r>
            <a:fld id="{EF78DA1C-F2C1-4D96-A5D5-36A8977F999A}" type="slidenum">
              <a:rPr b="0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35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58000" y="76320"/>
            <a:ext cx="2057400" cy="458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620360" y="146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OROLA W205 – W2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54840" y="640080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Service Engineeing &amp; 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94360" y="662940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Level 1 / 2 , Rev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26920" y="115920"/>
            <a:ext cx="360360" cy="792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5264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180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0680" y="1533600"/>
            <a:ext cx="8162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6680" y="1312920"/>
            <a:ext cx="8270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09600" y="1503360"/>
            <a:ext cx="67230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467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00320" y="990720"/>
            <a:ext cx="6541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75240" y="893880"/>
            <a:ext cx="21171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SPECIFICATION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7800" y="1343160"/>
            <a:ext cx="741528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A Dat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Q4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Form Factor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Ba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Bands/Modes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GSM 900/18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iz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65c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Weigh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78 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TT/SB Time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T: 238~469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B: 133~30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Battery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850mA Li-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17600" y="990720"/>
            <a:ext cx="6507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6680" y="990720"/>
            <a:ext cx="757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24640" y="903240"/>
            <a:ext cx="13536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ENAB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120" y="1620720"/>
            <a:ext cx="8435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Display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.5” 128*128 65K color T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4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新細明體"/>
              </a:rPr>
              <a:t>B/W CSTN for W205, W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Browser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/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Audio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aker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Messaging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MS,EMS Imelody format downloada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ingtone, NSM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Email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ync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N/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onnectivity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U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64MBit(Flash)+16M(RAM); None memory for u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TI Locosto security chip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79480" y="855720"/>
            <a:ext cx="17971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4760" y="1228680"/>
            <a:ext cx="63910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38360"/>
            <a:ext cx="78343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Codec: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MIDI, A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Capability 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32 Channel Polyphonic ring tone; 24 channel in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dedicated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when device in idl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Navigation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    5-Wa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Antanna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　       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Other function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VibraCall vibrating ale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M radio (w/o W205, W2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Imager: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  VGA 640x480 (W215, W216, W218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84440" y="2349360"/>
            <a:ext cx="84132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88080" y="2349360"/>
            <a:ext cx="85860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licorice_licorice_noborder8" descr=""/>
          <p:cNvPicPr/>
          <p:nvPr/>
        </p:nvPicPr>
        <p:blipFill>
          <a:blip r:embed="rId3"/>
          <a:stretch/>
        </p:blipFill>
        <p:spPr>
          <a:xfrm>
            <a:off x="7211880" y="2349360"/>
            <a:ext cx="8510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2b_808_ugly" descr=""/>
          <p:cNvPicPr/>
          <p:nvPr/>
        </p:nvPicPr>
        <p:blipFill>
          <a:blip r:embed="rId4"/>
          <a:srcRect l="3267" t="0" r="5243" b="0"/>
          <a:stretch/>
        </p:blipFill>
        <p:spPr>
          <a:xfrm>
            <a:off x="8167680" y="2349360"/>
            <a:ext cx="70632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969160" y="2349360"/>
            <a:ext cx="80640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k" descr=""/>
          <p:cNvPicPr/>
          <p:nvPr/>
        </p:nvPicPr>
        <p:blipFill>
          <a:blip r:embed="rId6"/>
          <a:stretch/>
        </p:blipFill>
        <p:spPr>
          <a:xfrm>
            <a:off x="1406520" y="2349360"/>
            <a:ext cx="103356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k" descr=""/>
          <p:cNvPicPr/>
          <p:nvPr/>
        </p:nvPicPr>
        <p:blipFill>
          <a:blip r:embed="rId7"/>
          <a:stretch/>
        </p:blipFill>
        <p:spPr>
          <a:xfrm>
            <a:off x="3774960" y="2349360"/>
            <a:ext cx="103356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2560" y="855720"/>
            <a:ext cx="22708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 u="sng">
                <a:solidFill>
                  <a:srgbClr val="3333cc"/>
                </a:solidFill>
                <a:uFillTx/>
                <a:latin typeface="Verdana"/>
              </a:rPr>
              <a:t>Product Var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4760" y="1228680"/>
            <a:ext cx="63910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9520" y="1636560"/>
          <a:ext cx="8755200" cy="2872080"/>
        </p:xfrm>
        <a:graphic>
          <a:graphicData uri="http://schemas.openxmlformats.org/drawingml/2006/table">
            <a:tbl>
              <a:tblPr/>
              <a:tblGrid>
                <a:gridCol w="216000"/>
                <a:gridCol w="940320"/>
                <a:gridCol w="1064520"/>
                <a:gridCol w="1141560"/>
                <a:gridCol w="216000"/>
                <a:gridCol w="961920"/>
                <a:gridCol w="1072440"/>
                <a:gridCol w="1141560"/>
                <a:gridCol w="216000"/>
                <a:gridCol w="929160"/>
                <a:gridCol w="8557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53240" y="4673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more information please refer to compariso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990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sign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593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9144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iquid Crystal Display (LCD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74680" y="2050920"/>
            <a:ext cx="6794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9680" y="9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Dis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600" y="1371600"/>
            <a:ext cx="841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69960" y="1066680"/>
            <a:ext cx="60022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5105520"/>
            <a:ext cx="46357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53:23Z</dcterms:created>
  <dc:creator>Johann_Huang</dc:creator>
  <dc:description/>
  <dc:language>en-US</dc:language>
  <cp:lastModifiedBy>wfab610</cp:lastModifiedBy>
  <dcterms:modified xsi:type="dcterms:W3CDTF">2006-12-08T07:33:40Z</dcterms:modified>
  <cp:revision>5</cp:revision>
  <dc:subject/>
  <dc:title>投影片 1</dc:title>
</cp:coreProperties>
</file>